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CBB-EBB1-4AE4-A512-B88A48B4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8CFD-985C-43D5-8359-A4A2D217A0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1D8-6F25-494B-B2A8-54542505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55A-BFA7-4690-BF05-E7F23C95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B7E-090F-44B2-B2C1-FDB7BB1D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6781-CFF0-4065-83F8-16DBE7755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8CD-3BA8-4A4C-AD64-BD15E236D3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2CA6-F27F-4163-B6D1-7E03C12A7E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894-D46C-427E-8313-BDA1B522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C1C-2842-4C82-9AA2-F74063BF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055-615D-4260-95CE-0F54D7B84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2C5-7CED-49AF-BD5F-E9E8D92F433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6527-6986-4DCE-95E7-DD4B88E6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A079-E2A6-4EEC-B444-49E826A4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E53-18C4-44F1-B23D-BCC1D3C0B7B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138-5144-4732-B818-D48D9E4A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F33-6C62-4E1A-AD6C-EDA3DE7A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2D5-1FD3-4304-9417-764D6A62D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E998-BBE0-4B97-987F-CD33C0A80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6A83-11A6-4496-8B80-040337C4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8B6-C6AF-4113-A433-E7F671E9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E430-F8CE-4B5F-849A-38A126FB41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2CD-8696-44ED-847F-887549ED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DA3-15C2-450D-9011-BDB8A341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029D-FC0E-4BE7-92B8-D19B76D8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743-2784-4B3B-99B9-02401462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AD9-968F-4456-8989-D5E0C683219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292-7474-4EDB-A69B-09C30EAE1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86533-8F63-4C84-AEFB-F4357199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FBC1C-5BE3-4EF6-AF00-80402FE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42F8D-214E-4719-B7F1-DD04AE4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D15C1-4EDC-449E-AA60-C979E96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ABC8A-BD78-450E-8CFC-B01DB9B0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F7E4A-C8A2-4CCC-AE42-43D8799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9E3BE-AF53-472C-A081-6A159735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2D859-3732-4FD3-810E-8862DDE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C3B7C3-6BBE-4269-B209-054A70E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2134B-AC2B-482B-8EB5-C0C252C5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1DD0B-7974-42D2-B59E-00F46FF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2F363-BEE9-4177-B622-FD303DF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8DCCA-DC53-4295-A140-1BC7023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22245-130D-4B30-B8C7-FED57B34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53A04-8273-408D-AE93-B8DCF1ED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8422A-CF40-4CD7-948D-A8576FC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ADFFDD-AD89-4D6C-8550-831862D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69385-8086-4A36-A93D-29F2DBA0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3C12E-CD00-48FD-AEB1-D490C24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6FE52-1100-4F8E-BACE-152D1E09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5765D-0EA2-4C65-AA53-09F8C42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C386B-2F5F-455D-AE0D-53D30ABA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6D14A-8D37-4680-8590-B5500D1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21EE3-B564-4126-AB7F-8906762A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3A325-A9E7-4085-9B1C-5E43466D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42F197-6B4A-4156-9A98-62A529A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7CE105-8F9E-456D-8D3E-5072A23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D878C-A36D-46FF-BD63-59B0286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0395E2-6257-435C-9179-0212837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67667C-E530-44E8-B73A-FC84EE4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156-2BC6-411F-882D-01E9BEB8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014EC-9A84-49D4-B298-842BC92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6C465-5916-44BD-8C08-95F569CE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709A74-2C3D-426D-ABA4-C6C6F310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1DA1A-C633-4779-87C2-4A850AED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A4926-7D2D-40AB-B09A-0066359A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9771A9-342E-4CE6-BAB3-106AF6A4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3CF5B4-BDD6-4459-9D70-9A598FA2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A7EAC6-AB6E-44A1-9375-26B6518E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C34355-82B1-483F-B25A-77BB2993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D3C249-07A1-4122-A2AB-7F8FF56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0EB-91F1-4ACD-A3F2-6285C3BD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7A2574-CFF1-4FE1-921A-9DA5BEC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881E3-CDB4-4D4F-98E9-806364C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5C2697-E437-425C-8AC2-C1C097FC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B819C4-3FAB-4121-A3ED-AF05860D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D4DDAE-B8A1-43E2-9F51-DCD1A86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CC7759-4B90-491E-B453-B4CDE12B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9DE2DC-B2F9-41FC-9B9E-CC5BEAC5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DCF60D-8EAC-465E-A1F6-F5E452E3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113EA3-4311-407A-93B0-493E384A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B7EDEC-DDC3-404C-8AE2-447C920A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6A6-E2D8-4D11-BFEA-BEEC2D22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1B34E-C456-4E1F-AD06-7040777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42088-306E-441F-A04B-AF14DA5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130BCB-7594-4A79-A21B-03F57AB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C42AC-E098-4B57-A889-D721F20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5CCE47-1188-463C-B113-3A51B7E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631491-DAF0-427B-8133-D639689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E02FB1-A214-4062-8FCC-F3517662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B3BFCD-4A24-41FA-A3C0-9425DF8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AA90ED-9FC7-490A-BA6E-6D55AE78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FC0E20-537A-4891-ABD1-D180698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6AD-B0EF-41A8-8D3C-886ED33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DA62AE-58DD-4D47-A47B-F01833D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CD9C44-B140-4481-8F55-75320261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84D2A-26E9-441D-9D8A-193E988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DC2DA-4DDE-4ABB-A58C-312FDA4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7D6B0-963B-4246-942F-4CC1613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1C3540-01B5-4742-9508-2D9556C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46B31D-B483-44B1-99B0-D8F68A3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6DA60-EDE5-44AF-8C7D-9836F34E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889BE-6879-4540-BD44-F1B7D32C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51B-DB5E-47D6-A0C7-DC7A55D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A5C-83F8-419E-874E-54E6BCD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054-CAD2-4F79-B064-423D042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DDF-AD6B-419F-BCBE-462F0ABB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61E-E5E9-4E76-AAAC-FA3FC49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972-367C-48EB-AE4B-A181F8D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27E-CBFB-44E5-84BC-E607EC0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F9E-43C7-49A6-9BCF-966CA33E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BF031-91F9-44BB-8D26-24106DA5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DD2D5-1565-4A3A-9686-8F72A49C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44174-4A36-4AF3-B4AB-33DC2E0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982CB-F15A-4070-8DCF-C6C67C6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6A9D3-83D6-499E-9C34-EA10E65B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D9FFA-C4B1-44D9-AFB6-2FF8282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0700C-957C-49E7-8E25-778E690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EFC4E-28CA-4292-A55B-929D62B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3BA56-34E8-4C3F-960A-00F0CE86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ABEE5-6CE3-40A4-9EC1-FFE8CD5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01080-BADD-4944-841D-8336C134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4CF4C-0608-404D-9882-1A852828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51251-2DC2-4168-B284-646D7B03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98F50-E462-4C90-8747-371C052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6F729-F5EC-4F1F-9EF9-1B782190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0CC48-D1C0-4BA8-9E41-BBD73792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54CF8-0307-425C-A4D8-D513C08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CD362-B215-4707-9A9F-2E0BD90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EE1A8-917B-4E64-A4DB-E81D858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4EB3D-7D57-4D03-B6A8-45F2AB8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2A226-972C-44EF-9583-2650187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720F3-D08A-46B2-9D5D-C466656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31EDB-E43C-43E2-99AA-E3C0ED31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EAD3E-F0AE-4810-BDEE-5B1D31F1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8DBBD-4077-4700-827A-E875C46A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C733A-CB6A-4830-B986-8A5AB0D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992C5-DC7B-4A37-AB18-18ED0A3F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1369A-D114-4D9D-B42A-47BEB04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CFE4F-5EAD-4178-BC93-8D5D3D5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20E9B-0E23-4BCF-959F-380EA10B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62099-1353-485A-A206-9C1FCCB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99C8F-A688-43AA-ACA3-D076E7B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FFE93-C007-4A1D-90E7-ADD87A8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63C84-6ACD-400A-B4CF-1B0494B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40D9B-F4C8-4EC7-B542-B1F970FD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25424-A6FB-4BDD-BA7E-83A9E171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EAE3C-7575-416E-A90C-8E780FE7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0737A-0338-48FB-9D4D-1F13DE8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916A8-1EC8-4883-8B4D-415AAD4D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C6F02-2E16-4882-997F-AA44FF5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C3753-01B9-4A15-82C9-DA22A72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90365-A17F-4031-8AB4-B23F0EE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39EA7-0000-4EF7-9210-53550E8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EC6EF-2D4D-482A-B75B-D82DB0C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75513-F063-40A2-B0D1-96C8D83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9846B-A413-4A61-A0E5-17A7C56C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01962-E09E-420A-B515-4930AE34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EAFD6-11E2-4F8B-8F24-5443DA0B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082BA-EA14-4D29-9F34-45F1DFE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E2A9F-9665-4157-81CC-7B75099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12320-0142-4154-BB88-CFAFC94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094BC-DF38-42FF-AC3A-9F36D2E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D2C27-77FB-418A-B046-9E15A06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1EE5F-EC56-4D7F-B520-C793741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42251-476E-4981-A6AF-7BD58B7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F1364-9907-44B9-A5C9-31A2393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03B1B-AE53-4EB5-BCF0-9277921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01BDD-053B-405E-9656-3CDE0CE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0512A-8E24-42CD-8FCE-CCE77D86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65C6C-EDC2-4471-8D6A-82B3D6D2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9A412-1B2A-4F55-B72D-F249927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49A9B-372F-4B47-B746-430B920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3B6D9-C557-4F66-87D6-EEDC98D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655020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351-299C-446E-9683-0733EA031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258-C6D4-4AA2-BA8D-4DC9D851F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6E70-EAAA-4B1F-A8A0-040AFA2F4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25DB-F872-4923-A839-3A00F9807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F8C-9B18-4E4D-9649-79C75B219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AEA9-5DAA-4585-8B3B-088AF7B01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655020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F40-7767-46A7-94DF-DBA30AC0F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F45-3C7C-426C-A501-28F969F81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F74-0E2C-44A4-8590-3D2AD5E99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F88-19C9-405C-9EBA-0FCD38275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E108-AA89-4C54-86ED-DE5DA5A92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04B2-1C9B-4557-BD21-1FAEE36B3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Semiconductor" TargetMode="External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solator-metal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8"/>
          <p:cNvSpPr/>
          <p:nvPr/>
        </p:nvSpPr>
        <p:spPr>
          <a:xfrm>
            <a:off x="0" y="62928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-23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minología (continuación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520" y="10954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Medida de cuán fácil es para que un campo eléctrico genere una corriente.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(Medida normalmente en mhos/centímetro o Siemens/cm; S/cm)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Generalmente se debe a los electrones y huecos e/o iones. La conductividad es un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parámetro característico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como la densidad. ¡Para un superconductor la conductividad es infi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Resis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 el recíproco de la conductividad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  (normalmente medida en ohm-centímetros; Ω-cm)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Es un parámetro característico del material como la den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 u="sng">
                <a:solidFill>
                  <a:srgbClr val="8585e0"/>
                </a:solidFill>
                <a:uFillTx/>
                <a:latin typeface="Arial"/>
              </a:rPr>
              <a:t>Resistencia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Depende de la resistividad del material y sus dimensiones. Es una medida de cuánto el material se opone al fluxo de la corriente eléctrica. Es definida como R = V/I dónde R es la resistencia, V es el voltaje impuesta a la muestra y I es la corriente resultante. </a:t>
            </a:r>
            <a:r>
              <a:rPr b="1" lang="es-PR" sz="2000" spc="-1" strike="noStrike">
                <a:solidFill>
                  <a:srgbClr val="8585e0"/>
                </a:solidFill>
                <a:latin typeface="Arial"/>
              </a:rPr>
              <a:t>No es un parámetro característico del material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Eléctrica de los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materiales con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electrones libres, huecos o 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undantes de modo que permiten el movimiento de cargas a distancias macroscópicas (corriente) con relativa fac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etales como la plata, el cobre, el oro y el aluminio son buenos conductores eléctricos. Tienen resistividades en el orden d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Clasificación Eléctrica de los Materia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723960" y="1278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Aislantes (dieléctr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sin conducción iónica y cuyos electrones no están disponibles para realizar el flujo eléctrico. Los electrones y huecos no están libres de modo que n y p son prácticamente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con capa de valencia llena, vídreo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cerámicas y plásticos son buenos ais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electrones en esos materiales solamente se mueven a distancias sub-nanométricas cuando sujetados a un campo eléctrico; o sea, no conducen, solamente se polarizan (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sólo tienen comportamiento dieléctr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Clasificación Eléctrica de los Material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76080" y="1220760"/>
            <a:ext cx="8003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585e0"/>
                </a:solidFill>
                <a:uFillTx/>
                <a:latin typeface="Arial"/>
              </a:rPr>
              <a:t>Semi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que tienen una conductividad entre un aislante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/cm) y un buen conductor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/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emiconductores elementales, como el silicio y el germanio, tienen cuatro electrones en la capa de valencia (elementos del grupo IV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emiconductores también pueden ser compuestos como GaAs y polímeros orgánicos como el poli(3-hexiltiofeno), abreviado como P3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odo distinto a los metales, la conductividad de los semiconductores puede ser variada significativamenete mediante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</a:rPr>
              <a:t>dop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8585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istencia y Resis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9"/>
          <p:cNvGrpSpPr/>
          <p:nvPr/>
        </p:nvGrpSpPr>
        <p:grpSpPr>
          <a:xfrm>
            <a:off x="2011320" y="5495760"/>
            <a:ext cx="3210840" cy="825480"/>
            <a:chOff x="2011320" y="5495760"/>
            <a:chExt cx="3210840" cy="825480"/>
          </a:xfrm>
        </p:grpSpPr>
        <p:sp>
          <p:nvSpPr>
            <p:cNvPr id="622" name="TextBox 37"/>
            <p:cNvSpPr/>
            <p:nvPr/>
          </p:nvSpPr>
          <p:spPr>
            <a:xfrm>
              <a:off x="2011320" y="55544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rreglando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 =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Box 38"/>
            <p:cNvSpPr/>
            <p:nvPr/>
          </p:nvSpPr>
          <p:spPr>
            <a:xfrm>
              <a:off x="4838760" y="5495760"/>
              <a:ext cx="38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5"/>
          <p:cNvGrpSpPr/>
          <p:nvPr/>
        </p:nvGrpSpPr>
        <p:grpSpPr>
          <a:xfrm>
            <a:off x="577800" y="1978200"/>
            <a:ext cx="4093560" cy="3237120"/>
            <a:chOff x="577800" y="1978200"/>
            <a:chExt cx="4093560" cy="3237120"/>
          </a:xfrm>
        </p:grpSpPr>
        <p:grpSp>
          <p:nvGrpSpPr>
            <p:cNvPr id="625" name="Group 36"/>
            <p:cNvGrpSpPr/>
            <p:nvPr/>
          </p:nvGrpSpPr>
          <p:grpSpPr>
            <a:xfrm>
              <a:off x="577800" y="1978200"/>
              <a:ext cx="3913560" cy="2738160"/>
              <a:chOff x="577800" y="1978200"/>
              <a:chExt cx="3913560" cy="2738160"/>
            </a:xfrm>
          </p:grpSpPr>
          <p:sp>
            <p:nvSpPr>
              <p:cNvPr id="626" name="Rectangle 20"/>
              <p:cNvSpPr/>
              <p:nvPr/>
            </p:nvSpPr>
            <p:spPr>
              <a:xfrm>
                <a:off x="2822760" y="3311640"/>
                <a:ext cx="1057320" cy="1057320"/>
              </a:xfrm>
              <a:prstGeom prst="rect">
                <a:avLst/>
              </a:prstGeom>
              <a:solidFill>
                <a:srgbClr val="cccccc">
                  <a:alpha val="6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4"/>
              <p:cNvSpPr/>
              <p:nvPr/>
            </p:nvSpPr>
            <p:spPr>
              <a:xfrm>
                <a:off x="838080" y="1978200"/>
                <a:ext cx="990720" cy="147816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>
                <a:off x="1511280" y="2304000"/>
                <a:ext cx="2589480" cy="1476720"/>
              </a:xfrm>
              <a:custGeom>
                <a:avLst/>
                <a:gdLst>
                  <a:gd name="textAreaLeft" fmla="*/ 0 w 2589480"/>
                  <a:gd name="textAreaRight" fmla="*/ 2589840 w 2589480"/>
                  <a:gd name="textAreaTop" fmla="*/ 0 h 1476720"/>
                  <a:gd name="textAreaBottom" fmla="*/ 1477080 h 1476720"/>
                </a:gdLst>
                <a:ahLst/>
                <a:rect l="textAreaLeft" t="textAreaTop" r="textAreaRight" b="textAreaBottom"/>
                <a:pathLst>
                  <a:path w="2588712" h="1475983">
                    <a:moveTo>
                      <a:pt x="2334016" y="851770"/>
                    </a:moveTo>
                    <a:cubicBezTo>
                      <a:pt x="2461364" y="632564"/>
                      <a:pt x="2588712" y="413358"/>
                      <a:pt x="2484328" y="275572"/>
                    </a:cubicBezTo>
                    <a:cubicBezTo>
                      <a:pt x="2379944" y="137786"/>
                      <a:pt x="1943621" y="0"/>
                      <a:pt x="1707714" y="25052"/>
                    </a:cubicBezTo>
                    <a:cubicBezTo>
                      <a:pt x="1471807" y="50104"/>
                      <a:pt x="1240076" y="225469"/>
                      <a:pt x="1068887" y="425885"/>
                    </a:cubicBezTo>
                    <a:cubicBezTo>
                      <a:pt x="897698" y="626301"/>
                      <a:pt x="841331" y="1058449"/>
                      <a:pt x="680580" y="1227550"/>
                    </a:cubicBezTo>
                    <a:cubicBezTo>
                      <a:pt x="519829" y="1396651"/>
                      <a:pt x="208767" y="1475983"/>
                      <a:pt x="104383" y="1440493"/>
                    </a:cubicBezTo>
                    <a:cubicBezTo>
                      <a:pt x="0" y="1405003"/>
                      <a:pt x="27139" y="1209805"/>
                      <a:pt x="54279" y="10146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17"/>
              <p:cNvGrpSpPr/>
              <p:nvPr/>
            </p:nvGrpSpPr>
            <p:grpSpPr>
              <a:xfrm>
                <a:off x="2464200" y="2701800"/>
                <a:ext cx="2027160" cy="2014560"/>
                <a:chOff x="2464200" y="2701800"/>
                <a:chExt cx="2027160" cy="2014560"/>
              </a:xfrm>
            </p:grpSpPr>
            <p:sp>
              <p:nvSpPr>
                <p:cNvPr id="630" name="Rectangle 14"/>
                <p:cNvSpPr/>
                <p:nvPr/>
              </p:nvSpPr>
              <p:spPr>
                <a:xfrm>
                  <a:off x="3447000" y="2701800"/>
                  <a:ext cx="1044360" cy="1044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Straight Connector 16"/>
                <p:cNvSpPr/>
                <p:nvPr/>
              </p:nvSpPr>
              <p:spPr>
                <a:xfrm flipV="1">
                  <a:off x="2464200" y="3746160"/>
                  <a:ext cx="982800" cy="97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Rectangle 5"/>
              <p:cNvSpPr/>
              <p:nvPr/>
            </p:nvSpPr>
            <p:spPr>
              <a:xfrm>
                <a:off x="927360" y="2055240"/>
                <a:ext cx="812160" cy="52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6"/>
              <p:cNvSpPr/>
              <p:nvPr/>
            </p:nvSpPr>
            <p:spPr>
              <a:xfrm>
                <a:off x="1014120" y="2654280"/>
                <a:ext cx="611280" cy="61272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Straight Connector 8"/>
              <p:cNvSpPr/>
              <p:nvPr/>
            </p:nvSpPr>
            <p:spPr>
              <a:xfrm flipV="1">
                <a:off x="1103760" y="2744640"/>
                <a:ext cx="432720" cy="43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10"/>
              <p:cNvSpPr/>
              <p:nvPr/>
            </p:nvSpPr>
            <p:spPr>
              <a:xfrm>
                <a:off x="577800" y="3331440"/>
                <a:ext cx="2365920" cy="1180080"/>
              </a:xfrm>
              <a:custGeom>
                <a:avLst/>
                <a:gdLst>
                  <a:gd name="textAreaLeft" fmla="*/ 0 w 2365920"/>
                  <a:gd name="textAreaRight" fmla="*/ 2366280 w 2365920"/>
                  <a:gd name="textAreaTop" fmla="*/ 0 h 1180080"/>
                  <a:gd name="textAreaBottom" fmla="*/ 1180440 h 1180080"/>
                </a:gdLst>
                <a:ahLst/>
                <a:rect l="textAreaLeft" t="textAreaTop" r="textAreaRight" b="textAreaBottom"/>
                <a:pathLst>
                  <a:path w="2365332" h="1179534">
                    <a:moveTo>
                      <a:pt x="2365332" y="864296"/>
                    </a:moveTo>
                    <a:cubicBezTo>
                      <a:pt x="2114811" y="994775"/>
                      <a:pt x="1864291" y="1125254"/>
                      <a:pt x="1538614" y="1152394"/>
                    </a:cubicBezTo>
                    <a:cubicBezTo>
                      <a:pt x="1212937" y="1179534"/>
                      <a:pt x="663879" y="1133605"/>
                      <a:pt x="411271" y="1027134"/>
                    </a:cubicBezTo>
                    <a:cubicBezTo>
                      <a:pt x="158663" y="920663"/>
                      <a:pt x="0" y="630477"/>
                      <a:pt x="22964" y="513567"/>
                    </a:cubicBezTo>
                    <a:cubicBezTo>
                      <a:pt x="45929" y="396658"/>
                      <a:pt x="471814" y="411271"/>
                      <a:pt x="549058" y="325677"/>
                    </a:cubicBezTo>
                    <a:cubicBezTo>
                      <a:pt x="626302" y="240083"/>
                      <a:pt x="556364" y="120041"/>
                      <a:pt x="4864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TextBox 21"/>
            <p:cNvSpPr/>
            <p:nvPr/>
          </p:nvSpPr>
          <p:spPr>
            <a:xfrm>
              <a:off x="1680120" y="4847040"/>
              <a:ext cx="223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área transver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Straight Connector 23"/>
            <p:cNvSpPr/>
            <p:nvPr/>
          </p:nvSpPr>
          <p:spPr>
            <a:xfrm flipV="1">
              <a:off x="3744360" y="3757320"/>
              <a:ext cx="927000" cy="9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24"/>
            <p:cNvSpPr/>
            <p:nvPr/>
          </p:nvSpPr>
          <p:spPr>
            <a:xfrm>
              <a:off x="4261680" y="412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TextBox 26"/>
          <p:cNvSpPr/>
          <p:nvPr/>
        </p:nvSpPr>
        <p:spPr>
          <a:xfrm>
            <a:off x="5886720" y="3168720"/>
            <a:ext cx="259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jemplos de 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Ohms-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: O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: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: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38"/>
          <p:cNvGrpSpPr/>
          <p:nvPr/>
        </p:nvGrpSpPr>
        <p:grpSpPr>
          <a:xfrm>
            <a:off x="4826160" y="1327320"/>
            <a:ext cx="2674800" cy="1486080"/>
            <a:chOff x="4826160" y="1327320"/>
            <a:chExt cx="2674800" cy="1486080"/>
          </a:xfrm>
        </p:grpSpPr>
        <p:grpSp>
          <p:nvGrpSpPr>
            <p:cNvPr id="641" name="Group 39"/>
            <p:cNvGrpSpPr/>
            <p:nvPr/>
          </p:nvGrpSpPr>
          <p:grpSpPr>
            <a:xfrm>
              <a:off x="5992560" y="1527840"/>
              <a:ext cx="1508400" cy="825480"/>
              <a:chOff x="5992560" y="1527840"/>
              <a:chExt cx="1508400" cy="825480"/>
            </a:xfrm>
          </p:grpSpPr>
          <p:sp>
            <p:nvSpPr>
              <p:cNvPr id="642" name="TextBox 37"/>
              <p:cNvSpPr/>
              <p:nvPr/>
            </p:nvSpPr>
            <p:spPr>
              <a:xfrm>
                <a:off x="5992560" y="1665360"/>
                <a:ext cx="116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ρ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R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Box 38"/>
              <p:cNvSpPr/>
              <p:nvPr/>
            </p:nvSpPr>
            <p:spPr>
              <a:xfrm>
                <a:off x="7117560" y="1527840"/>
                <a:ext cx="383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TextBox 28"/>
            <p:cNvSpPr/>
            <p:nvPr/>
          </p:nvSpPr>
          <p:spPr>
            <a:xfrm>
              <a:off x="4826160" y="13273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iv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Box 29"/>
            <p:cNvSpPr/>
            <p:nvPr/>
          </p:nvSpPr>
          <p:spPr>
            <a:xfrm>
              <a:off x="6118200" y="244512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Straight Arrow Connector 33"/>
            <p:cNvCxnSpPr>
              <a:stCxn id="644" idx="2"/>
              <a:endCxn id="642" idx="1"/>
            </p:cNvCxnSpPr>
            <p:nvPr/>
          </p:nvCxnSpPr>
          <p:spPr>
            <a:xfrm>
              <a:off x="5434560" y="1697040"/>
              <a:ext cx="554040" cy="20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47" name="Straight Arrow Connector 34"/>
            <p:cNvCxnSpPr>
              <a:stCxn id="645" idx="0"/>
            </p:cNvCxnSpPr>
            <p:nvPr/>
          </p:nvCxnSpPr>
          <p:spPr>
            <a:xfrm flipH="1" flipV="1">
              <a:off x="6701760" y="2041560"/>
              <a:ext cx="76680" cy="40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48" name="Straight Connector 3"/>
          <p:cNvSpPr/>
          <p:nvPr/>
        </p:nvSpPr>
        <p:spPr>
          <a:xfrm flipV="1">
            <a:off x="2822400" y="2701800"/>
            <a:ext cx="624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traight Connector 8"/>
          <p:cNvSpPr/>
          <p:nvPr/>
        </p:nvSpPr>
        <p:spPr>
          <a:xfrm flipV="1">
            <a:off x="3879720" y="2716200"/>
            <a:ext cx="61128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879720" y="3746160"/>
            <a:ext cx="61128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720" y="2590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blemos primeramente de corrientes eléctricas debido a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electrones y hue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 esto, debemos recordar el hecho que solamente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ciertos niveles de energía están permitidos para los electrones en los materia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301920" y="4075200"/>
          <a:ext cx="2684520" cy="2047680"/>
        </p:xfrm>
        <a:graphic>
          <a:graphicData uri="http://schemas.openxmlformats.org/drawingml/2006/table">
            <a:tbl>
              <a:tblPr/>
              <a:tblGrid>
                <a:gridCol w="1290600"/>
                <a:gridCol w="1393920"/>
              </a:tblGrid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ivel de energ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erg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3.6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.4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.51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.85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.54 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406440" y="409680"/>
            <a:ext cx="8147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lamente hay ciertos niveles de energía permitidos para los electrones en los materiales. Ejemplo: niveles en el átomo de hidróge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4"/>
          <p:cNvSpPr/>
          <p:nvPr/>
        </p:nvSpPr>
        <p:spPr>
          <a:xfrm>
            <a:off x="2590920" y="1676520"/>
            <a:ext cx="4952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0"/>
          <p:cNvSpPr/>
          <p:nvPr/>
        </p:nvSpPr>
        <p:spPr>
          <a:xfrm>
            <a:off x="2666880" y="2220840"/>
            <a:ext cx="51818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21"/>
          <p:cNvSpPr/>
          <p:nvPr/>
        </p:nvSpPr>
        <p:spPr>
          <a:xfrm>
            <a:off x="2666880" y="1828800"/>
            <a:ext cx="5334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22"/>
          <p:cNvGrpSpPr/>
          <p:nvPr/>
        </p:nvGrpSpPr>
        <p:grpSpPr>
          <a:xfrm>
            <a:off x="2666880" y="1623960"/>
            <a:ext cx="4572000" cy="738360"/>
            <a:chOff x="2666880" y="1623960"/>
            <a:chExt cx="4572000" cy="738360"/>
          </a:xfrm>
        </p:grpSpPr>
        <p:sp>
          <p:nvSpPr>
            <p:cNvPr id="659" name="TextBox 6"/>
            <p:cNvSpPr/>
            <p:nvPr/>
          </p:nvSpPr>
          <p:spPr>
            <a:xfrm>
              <a:off x="2666880" y="1994040"/>
              <a:ext cx="4572000" cy="3682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7"/>
            <p:cNvSpPr/>
            <p:nvPr/>
          </p:nvSpPr>
          <p:spPr>
            <a:xfrm>
              <a:off x="2666880" y="1623960"/>
              <a:ext cx="4572000" cy="369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23"/>
          <p:cNvSpPr/>
          <p:nvPr/>
        </p:nvSpPr>
        <p:spPr>
          <a:xfrm>
            <a:off x="5495400" y="571032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http://en.wikipedia.org/wiki/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2666880" y="1987560"/>
            <a:ext cx="4572000" cy="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Straight Arrow Connector 5"/>
          <p:cNvCxnSpPr/>
          <p:nvPr/>
        </p:nvCxnSpPr>
        <p:spPr>
          <a:xfrm>
            <a:off x="2590560" y="990360"/>
            <a:ext cx="610200" cy="8182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64" name="Straight Arrow Connector 9"/>
          <p:cNvCxnSpPr/>
          <p:nvPr/>
        </p:nvCxnSpPr>
        <p:spPr>
          <a:xfrm flipH="1">
            <a:off x="4800240" y="1098360"/>
            <a:ext cx="651600" cy="889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65" name="Oval 10"/>
          <p:cNvSpPr/>
          <p:nvPr/>
        </p:nvSpPr>
        <p:spPr>
          <a:xfrm>
            <a:off x="4724280" y="1905120"/>
            <a:ext cx="228600" cy="190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235240" y="53341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Straight Arrow Connector 13"/>
          <p:cNvCxnSpPr/>
          <p:nvPr/>
        </p:nvCxnSpPr>
        <p:spPr>
          <a:xfrm flipH="1">
            <a:off x="6019200" y="1399680"/>
            <a:ext cx="533880" cy="77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68" name="Oval 14"/>
          <p:cNvSpPr/>
          <p:nvPr/>
        </p:nvSpPr>
        <p:spPr>
          <a:xfrm>
            <a:off x="2235240" y="3352680"/>
            <a:ext cx="2184480" cy="2133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Straight Arrow Connector 18"/>
          <p:cNvCxnSpPr/>
          <p:nvPr/>
        </p:nvCxnSpPr>
        <p:spPr>
          <a:xfrm flipH="1" flipV="1">
            <a:off x="4037760" y="5333760"/>
            <a:ext cx="381960" cy="7624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0" name="Rectangle 19"/>
          <p:cNvSpPr/>
          <p:nvPr/>
        </p:nvSpPr>
        <p:spPr>
          <a:xfrm>
            <a:off x="2425680" y="2286000"/>
            <a:ext cx="24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itle 1"/>
          <p:cNvSpPr/>
          <p:nvPr/>
        </p:nvSpPr>
        <p:spPr>
          <a:xfrm>
            <a:off x="477720" y="3352680"/>
            <a:ext cx="124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ergí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4248000" y="5867280"/>
            <a:ext cx="118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veles de los Electrone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itle 1"/>
          <p:cNvSpPr/>
          <p:nvPr/>
        </p:nvSpPr>
        <p:spPr>
          <a:xfrm>
            <a:off x="1461960" y="67464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Niveles de la Banda de Condu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itle 1"/>
          <p:cNvSpPr/>
          <p:nvPr/>
        </p:nvSpPr>
        <p:spPr>
          <a:xfrm>
            <a:off x="4476600" y="70164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ap de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itle 1"/>
          <p:cNvSpPr/>
          <p:nvPr/>
        </p:nvSpPr>
        <p:spPr>
          <a:xfrm>
            <a:off x="5853240" y="822240"/>
            <a:ext cx="118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Niveles de la Banda de Vale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-95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iveles de Energía en Sól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8"/>
          <p:cNvSpPr/>
          <p:nvPr/>
        </p:nvSpPr>
        <p:spPr>
          <a:xfrm>
            <a:off x="6553080" y="1523880"/>
            <a:ext cx="1105200" cy="10670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Straight Arrow Connector 15"/>
          <p:cNvCxnSpPr/>
          <p:nvPr/>
        </p:nvCxnSpPr>
        <p:spPr>
          <a:xfrm flipH="1">
            <a:off x="7238160" y="1098360"/>
            <a:ext cx="212040" cy="425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9" name="Title 1"/>
          <p:cNvSpPr/>
          <p:nvPr/>
        </p:nvSpPr>
        <p:spPr>
          <a:xfrm>
            <a:off x="7353360" y="685800"/>
            <a:ext cx="118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iveles de los Electrones de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"/>
          <p:cNvSpPr/>
          <p:nvPr/>
        </p:nvSpPr>
        <p:spPr>
          <a:xfrm>
            <a:off x="4338720" y="1519200"/>
            <a:ext cx="480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Cada nivel de energía de un átomo está cuantizado y ocupado por dos electrones de espines contrarios.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Cuando se aproximan los átomos, los niveles de energía se desdoblan en estados muy cercanos y forman bandas energéticas debido a las interacciones mutuas entre los electr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196920" y="5675400"/>
            <a:ext cx="535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optique-ingenieur.org/en/courses/OPI_ang_M05_C02/co/Contenu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2"/>
          <p:cNvGrpSpPr/>
          <p:nvPr/>
        </p:nvGrpSpPr>
        <p:grpSpPr>
          <a:xfrm>
            <a:off x="212760" y="1506600"/>
            <a:ext cx="4359240" cy="3240000"/>
            <a:chOff x="212760" y="1506600"/>
            <a:chExt cx="4359240" cy="3240000"/>
          </a:xfrm>
        </p:grpSpPr>
        <p:pic>
          <p:nvPicPr>
            <p:cNvPr id="684" name="Picture 18" descr="&#13;&#10;   &#13;&#10;    Figure 1 : Formation of energy bands for electrons in a silicon crystal with a diamond-type lattice structure &#13;&#10;   &#13;&#10;  "/>
            <p:cNvPicPr/>
            <p:nvPr/>
          </p:nvPicPr>
          <p:blipFill>
            <a:blip r:embed="rId1"/>
            <a:srcRect l="31896" t="0" r="0" b="0"/>
            <a:stretch/>
          </p:blipFill>
          <p:spPr>
            <a:xfrm>
              <a:off x="212760" y="1506600"/>
              <a:ext cx="43592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"/>
            <p:cNvSpPr/>
            <p:nvPr/>
          </p:nvSpPr>
          <p:spPr>
            <a:xfrm>
              <a:off x="227520" y="3163680"/>
              <a:ext cx="1296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9"/>
          <p:cNvSpPr/>
          <p:nvPr/>
        </p:nvSpPr>
        <p:spPr>
          <a:xfrm>
            <a:off x="826920" y="1494000"/>
            <a:ext cx="197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on (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2778120" y="1995480"/>
            <a:ext cx="17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s permi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2411280" y="4456080"/>
            <a:ext cx="197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Distancia interatómica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1"/>
          <p:cNvSpPr/>
          <p:nvPr/>
        </p:nvSpPr>
        <p:spPr>
          <a:xfrm>
            <a:off x="0" y="4995720"/>
            <a:ext cx="89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estructura de la banda energética se logra para la distancia interatómica en el equilib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2"/>
          <p:cNvSpPr/>
          <p:nvPr/>
        </p:nvSpPr>
        <p:spPr>
          <a:xfrm>
            <a:off x="317520" y="5950080"/>
            <a:ext cx="535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optique-ingenieur.org/en/courses/OPI_ang_M05_C02/co/Contenu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2"/>
          <p:cNvGrpSpPr/>
          <p:nvPr/>
        </p:nvGrpSpPr>
        <p:grpSpPr>
          <a:xfrm>
            <a:off x="1368360" y="1233360"/>
            <a:ext cx="6400800" cy="3240360"/>
            <a:chOff x="1368360" y="1233360"/>
            <a:chExt cx="6400800" cy="3240360"/>
          </a:xfrm>
        </p:grpSpPr>
        <p:pic>
          <p:nvPicPr>
            <p:cNvPr id="692" name="Picture 18" descr="&#13;&#10;   &#13;&#10;    Figure 1 : Formation of energy bands for electrons in a silicon crystal with a diamond-type lattice structure &#13;&#10;   &#13;&#10;  "/>
            <p:cNvPicPr/>
            <p:nvPr/>
          </p:nvPicPr>
          <p:blipFill>
            <a:blip r:embed="rId1"/>
            <a:stretch/>
          </p:blipFill>
          <p:spPr>
            <a:xfrm>
              <a:off x="1368360" y="1233360"/>
              <a:ext cx="640080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1"/>
            <p:cNvSpPr/>
            <p:nvPr/>
          </p:nvSpPr>
          <p:spPr>
            <a:xfrm>
              <a:off x="2339640" y="2889000"/>
              <a:ext cx="1296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Rectangle 2"/>
          <p:cNvSpPr/>
          <p:nvPr/>
        </p:nvSpPr>
        <p:spPr>
          <a:xfrm>
            <a:off x="0" y="79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(continu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1368360" y="2235240"/>
            <a:ext cx="284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1200240" y="2160720"/>
            <a:ext cx="517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314280" y="1593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cío  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4013280" y="1236600"/>
            <a:ext cx="1974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on (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3"/>
          <p:cNvSpPr/>
          <p:nvPr/>
        </p:nvSpPr>
        <p:spPr>
          <a:xfrm>
            <a:off x="5964120" y="1738440"/>
            <a:ext cx="17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s permi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4"/>
          <p:cNvSpPr/>
          <p:nvPr/>
        </p:nvSpPr>
        <p:spPr>
          <a:xfrm>
            <a:off x="5597640" y="4199040"/>
            <a:ext cx="1974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Distancia interatómica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848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itle 1"/>
          <p:cNvSpPr/>
          <p:nvPr/>
        </p:nvSpPr>
        <p:spPr>
          <a:xfrm>
            <a:off x="533520" y="371808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ferencia 7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asificando los Materiales según sus Propiedades Físicas: Propiedades Eléctricas, Parte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http://upload.wikimedia.org/wikipedia/commons/thumb/c/c7/Isolator-metal.svg/360px-Isolator-metal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97000" y="1862280"/>
            <a:ext cx="4716720" cy="30765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3"/>
          <p:cNvSpPr/>
          <p:nvPr/>
        </p:nvSpPr>
        <p:spPr>
          <a:xfrm>
            <a:off x="2160720" y="5235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en.wikipedia.org/wiki/Electronic_band_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0" y="792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"/>
          <p:cNvSpPr/>
          <p:nvPr/>
        </p:nvSpPr>
        <p:spPr>
          <a:xfrm>
            <a:off x="4861080" y="2994120"/>
            <a:ext cx="9903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"/>
          <p:cNvSpPr/>
          <p:nvPr/>
        </p:nvSpPr>
        <p:spPr>
          <a:xfrm>
            <a:off x="4792680" y="2994120"/>
            <a:ext cx="684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2962440" y="1944720"/>
            <a:ext cx="139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sol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4862520" y="2468520"/>
            <a:ext cx="971640" cy="45900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Banda de con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4854600" y="3840120"/>
            <a:ext cx="97164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Banda de val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1"/>
          <p:cNvSpPr/>
          <p:nvPr/>
        </p:nvSpPr>
        <p:spPr>
          <a:xfrm rot="16200000">
            <a:off x="1339200" y="3175560"/>
            <a:ext cx="1843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Energía del electr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4911840" y="4595760"/>
            <a:ext cx="97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000" spc="-1" strike="noStrike">
                <a:solidFill>
                  <a:srgbClr val="000000"/>
                </a:solidFill>
                <a:latin typeface="Arial"/>
                <a:ea typeface="Arial"/>
              </a:rPr>
              <a:t>Aisl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3"/>
          <p:cNvSpPr/>
          <p:nvPr/>
        </p:nvSpPr>
        <p:spPr>
          <a:xfrm>
            <a:off x="4686480" y="3362400"/>
            <a:ext cx="1218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-6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  <a:ea typeface="Arial"/>
              </a:rPr>
              <a:t>Estructura de la Banda de Energía para los Electrones de Val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\includegraphics[width=0.8\textwidth]{band-all.eps}"/>
          <p:cNvPicPr/>
          <p:nvPr/>
        </p:nvPicPr>
        <p:blipFill>
          <a:blip r:embed="rId1"/>
          <a:srcRect l="0" t="0" r="0" b="4851"/>
          <a:stretch/>
        </p:blipFill>
        <p:spPr>
          <a:xfrm>
            <a:off x="2814480" y="1139760"/>
            <a:ext cx="3135600" cy="199224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2"/>
          <p:cNvSpPr/>
          <p:nvPr/>
        </p:nvSpPr>
        <p:spPr>
          <a:xfrm>
            <a:off x="2814480" y="2706840"/>
            <a:ext cx="457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ttp://psi.phys.wits.ac.za/teaching/Connell/phys284/2005/lecture-07/lecture_07/node5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Box 1"/>
          <p:cNvSpPr/>
          <p:nvPr/>
        </p:nvSpPr>
        <p:spPr>
          <a:xfrm>
            <a:off x="390600" y="3390840"/>
            <a:ext cx="855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”, el número de electrones libres por volumen,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constante para un met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”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función de la temperatura para un semiconductor intrínse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“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p”, el número de huecos libres por volumen,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es función de la temperatura para un semiconductor intrínse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PR" sz="2400" spc="-1" strike="noStrike">
                <a:solidFill>
                  <a:srgbClr val="8585e0"/>
                </a:solidFill>
                <a:latin typeface="Arial"/>
                <a:ea typeface="Arial"/>
              </a:rPr>
              <a:t>n = p en un semiconductor </a:t>
            </a:r>
            <a:r>
              <a:rPr b="1" lang="es-PR" sz="24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intrínseco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0" y="2844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¿Cuántos electrones y huecos libres hay en la Banda de Energí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18"/>
          <p:cNvGrpSpPr/>
          <p:nvPr/>
        </p:nvGrpSpPr>
        <p:grpSpPr>
          <a:xfrm>
            <a:off x="969840" y="1889280"/>
            <a:ext cx="4746600" cy="3078000"/>
            <a:chOff x="969840" y="1889280"/>
            <a:chExt cx="4746600" cy="3078000"/>
          </a:xfrm>
        </p:grpSpPr>
        <p:pic>
          <p:nvPicPr>
            <p:cNvPr id="718" name="Picture 2" descr=""/>
            <p:cNvPicPr/>
            <p:nvPr/>
          </p:nvPicPr>
          <p:blipFill>
            <a:blip r:embed="rId1"/>
            <a:stretch/>
          </p:blipFill>
          <p:spPr>
            <a:xfrm>
              <a:off x="998640" y="1889280"/>
              <a:ext cx="471780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ectangle 1"/>
            <p:cNvSpPr/>
            <p:nvPr/>
          </p:nvSpPr>
          <p:spPr>
            <a:xfrm>
              <a:off x="969840" y="1960560"/>
              <a:ext cx="1444680" cy="28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2"/>
            <p:cNvSpPr/>
            <p:nvPr/>
          </p:nvSpPr>
          <p:spPr>
            <a:xfrm>
              <a:off x="2222640" y="1960560"/>
              <a:ext cx="46188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"/>
            <p:cNvSpPr/>
            <p:nvPr/>
          </p:nvSpPr>
          <p:spPr>
            <a:xfrm>
              <a:off x="3646440" y="2220840"/>
              <a:ext cx="130968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4"/>
            <p:cNvSpPr/>
            <p:nvPr/>
          </p:nvSpPr>
          <p:spPr>
            <a:xfrm>
              <a:off x="4551480" y="2990880"/>
              <a:ext cx="113652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3646440" y="3635280"/>
              <a:ext cx="1087560" cy="13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1509840" y="4656240"/>
              <a:ext cx="61596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2"/>
            <p:cNvSpPr/>
            <p:nvPr/>
          </p:nvSpPr>
          <p:spPr>
            <a:xfrm>
              <a:off x="1114560" y="2044800"/>
              <a:ext cx="703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6" name="Straight Arrow Connector 10"/>
            <p:cNvCxnSpPr/>
            <p:nvPr/>
          </p:nvCxnSpPr>
          <p:spPr>
            <a:xfrm>
              <a:off x="1509840" y="2452680"/>
              <a:ext cx="954720" cy="807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7" name="Rectangle 2"/>
            <p:cNvSpPr/>
            <p:nvPr/>
          </p:nvSpPr>
          <p:spPr>
            <a:xfrm>
              <a:off x="1114560" y="3822840"/>
              <a:ext cx="703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8" name="Straight Arrow Connector 13"/>
            <p:cNvCxnSpPr/>
            <p:nvPr/>
          </p:nvCxnSpPr>
          <p:spPr>
            <a:xfrm flipV="1">
              <a:off x="1509840" y="3426840"/>
              <a:ext cx="954720" cy="572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9" name="Straight Arrow Connector 15"/>
            <p:cNvCxnSpPr/>
            <p:nvPr/>
          </p:nvCxnSpPr>
          <p:spPr>
            <a:xfrm flipH="1">
              <a:off x="4190760" y="2552760"/>
              <a:ext cx="543600" cy="808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30" name="Rectangle 2"/>
          <p:cNvSpPr/>
          <p:nvPr/>
        </p:nvSpPr>
        <p:spPr>
          <a:xfrm>
            <a:off x="4878360" y="3009960"/>
            <a:ext cx="40417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El nivel de Fermi está en el medio del band gap cuando n =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El nivel de Fermi no tiene que estar siempre en el 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Cuando “n” no es igual a “p”, el material es llamado </a:t>
            </a:r>
            <a:r>
              <a:rPr b="1" lang="en-US" sz="2800" spc="-1" strike="noStrike">
                <a:solidFill>
                  <a:srgbClr val="8585e0"/>
                </a:solidFill>
                <a:latin typeface="Arial"/>
                <a:ea typeface="Arial"/>
              </a:rPr>
              <a:t>extrínse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613320" y="3400560"/>
            <a:ext cx="12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2212920" y="1889280"/>
            <a:ext cx="4718160" cy="307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"/>
          <p:cNvSpPr/>
          <p:nvPr/>
        </p:nvSpPr>
        <p:spPr>
          <a:xfrm>
            <a:off x="2212920" y="1963800"/>
            <a:ext cx="1444680" cy="28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"/>
          <p:cNvSpPr/>
          <p:nvPr/>
        </p:nvSpPr>
        <p:spPr>
          <a:xfrm>
            <a:off x="3465360" y="1963800"/>
            <a:ext cx="4622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4889520" y="2224080"/>
            <a:ext cx="130968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5794200" y="2994120"/>
            <a:ext cx="1136880" cy="16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4889520" y="3638520"/>
            <a:ext cx="1087560" cy="13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52560" y="4659480"/>
            <a:ext cx="61596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142920" y="507960"/>
            <a:ext cx="8805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¿Cuál es la conexión entre la representación de la Banda de Energía y aspectos físicos de los electrones de Valenc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4842000" y="3371760"/>
            <a:ext cx="1233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Arial"/>
                <a:ea typeface="Arial"/>
              </a:rPr>
              <a:t>Nivel de Fe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Conexión entre la Banda de Energía y aspect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3"/>
          <p:cNvSpPr/>
          <p:nvPr/>
        </p:nvSpPr>
        <p:spPr>
          <a:xfrm>
            <a:off x="4200480" y="342900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4"/>
          <p:cNvSpPr/>
          <p:nvPr/>
        </p:nvSpPr>
        <p:spPr>
          <a:xfrm>
            <a:off x="4200480" y="4419720"/>
            <a:ext cx="106668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5"/>
          <p:cNvSpPr/>
          <p:nvPr/>
        </p:nvSpPr>
        <p:spPr>
          <a:xfrm>
            <a:off x="3133800" y="342900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6"/>
          <p:cNvSpPr/>
          <p:nvPr/>
        </p:nvSpPr>
        <p:spPr>
          <a:xfrm>
            <a:off x="5267160" y="3429000"/>
            <a:ext cx="106704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7"/>
          <p:cNvSpPr/>
          <p:nvPr/>
        </p:nvSpPr>
        <p:spPr>
          <a:xfrm>
            <a:off x="4200480" y="2438280"/>
            <a:ext cx="1066680" cy="99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8"/>
          <p:cNvSpPr/>
          <p:nvPr/>
        </p:nvSpPr>
        <p:spPr>
          <a:xfrm>
            <a:off x="4581360" y="33526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4657680" y="23623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0"/>
          <p:cNvSpPr/>
          <p:nvPr/>
        </p:nvSpPr>
        <p:spPr>
          <a:xfrm>
            <a:off x="4124160" y="2819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1"/>
          <p:cNvSpPr/>
          <p:nvPr/>
        </p:nvSpPr>
        <p:spPr>
          <a:xfrm>
            <a:off x="5191200" y="2819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2"/>
          <p:cNvSpPr/>
          <p:nvPr/>
        </p:nvSpPr>
        <p:spPr>
          <a:xfrm>
            <a:off x="4734000" y="33526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13"/>
          <p:cNvSpPr/>
          <p:nvPr/>
        </p:nvSpPr>
        <p:spPr>
          <a:xfrm>
            <a:off x="4581360" y="43434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14"/>
          <p:cNvSpPr/>
          <p:nvPr/>
        </p:nvSpPr>
        <p:spPr>
          <a:xfrm>
            <a:off x="4734000" y="4343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15"/>
          <p:cNvSpPr/>
          <p:nvPr/>
        </p:nvSpPr>
        <p:spPr>
          <a:xfrm>
            <a:off x="4124160" y="48769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16"/>
          <p:cNvSpPr/>
          <p:nvPr/>
        </p:nvSpPr>
        <p:spPr>
          <a:xfrm>
            <a:off x="5191200" y="48769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17"/>
          <p:cNvSpPr/>
          <p:nvPr/>
        </p:nvSpPr>
        <p:spPr>
          <a:xfrm>
            <a:off x="4657680" y="53341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18"/>
          <p:cNvSpPr/>
          <p:nvPr/>
        </p:nvSpPr>
        <p:spPr>
          <a:xfrm>
            <a:off x="5191200" y="3962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9"/>
          <p:cNvSpPr/>
          <p:nvPr/>
        </p:nvSpPr>
        <p:spPr>
          <a:xfrm>
            <a:off x="5724360" y="33526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6257880" y="38098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5191200" y="38098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4124160" y="38098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23"/>
          <p:cNvSpPr/>
          <p:nvPr/>
        </p:nvSpPr>
        <p:spPr>
          <a:xfrm>
            <a:off x="3591000" y="4343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24"/>
          <p:cNvSpPr/>
          <p:nvPr/>
        </p:nvSpPr>
        <p:spPr>
          <a:xfrm>
            <a:off x="3591000" y="33526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25"/>
          <p:cNvSpPr/>
          <p:nvPr/>
        </p:nvSpPr>
        <p:spPr>
          <a:xfrm>
            <a:off x="3057480" y="38862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26"/>
          <p:cNvSpPr/>
          <p:nvPr/>
        </p:nvSpPr>
        <p:spPr>
          <a:xfrm>
            <a:off x="4124160" y="3962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27"/>
          <p:cNvSpPr/>
          <p:nvPr/>
        </p:nvSpPr>
        <p:spPr>
          <a:xfrm>
            <a:off x="5343480" y="32004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3209760" y="2362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3"/>
          <p:cNvSpPr/>
          <p:nvPr/>
        </p:nvSpPr>
        <p:spPr>
          <a:xfrm flipH="1">
            <a:off x="5495400" y="243828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1256400" y="213372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ón enla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6106320" y="2209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lectrón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(contribuye a “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36"/>
          <p:cNvSpPr/>
          <p:nvPr/>
        </p:nvSpPr>
        <p:spPr>
          <a:xfrm>
            <a:off x="5724360" y="43434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34"/>
          <p:cNvSpPr/>
          <p:nvPr/>
        </p:nvSpPr>
        <p:spPr>
          <a:xfrm>
            <a:off x="3529080" y="3003480"/>
            <a:ext cx="1960560" cy="258444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1960704" h="2584744">
                <a:moveTo>
                  <a:pt x="1814286" y="378573"/>
                </a:moveTo>
                <a:cubicBezTo>
                  <a:pt x="1785257" y="388249"/>
                  <a:pt x="1753148" y="391384"/>
                  <a:pt x="1727200" y="407601"/>
                </a:cubicBezTo>
                <a:cubicBezTo>
                  <a:pt x="1682009" y="435845"/>
                  <a:pt x="1688097" y="540616"/>
                  <a:pt x="1683657" y="567258"/>
                </a:cubicBezTo>
                <a:cubicBezTo>
                  <a:pt x="1680378" y="586934"/>
                  <a:pt x="1673981" y="605963"/>
                  <a:pt x="1669143" y="625315"/>
                </a:cubicBezTo>
                <a:cubicBezTo>
                  <a:pt x="1678819" y="843029"/>
                  <a:pt x="1680074" y="1061282"/>
                  <a:pt x="1698172" y="1278458"/>
                </a:cubicBezTo>
                <a:cubicBezTo>
                  <a:pt x="1699621" y="1295842"/>
                  <a:pt x="1724479" y="1304771"/>
                  <a:pt x="1727200" y="1322001"/>
                </a:cubicBezTo>
                <a:cubicBezTo>
                  <a:pt x="1769707" y="1591209"/>
                  <a:pt x="1718091" y="1474245"/>
                  <a:pt x="1756229" y="1626801"/>
                </a:cubicBezTo>
                <a:cubicBezTo>
                  <a:pt x="1759940" y="1641644"/>
                  <a:pt x="1763901" y="1656660"/>
                  <a:pt x="1770743" y="1670344"/>
                </a:cubicBezTo>
                <a:cubicBezTo>
                  <a:pt x="1778544" y="1685946"/>
                  <a:pt x="1790096" y="1699373"/>
                  <a:pt x="1799772" y="1713887"/>
                </a:cubicBezTo>
                <a:cubicBezTo>
                  <a:pt x="1804610" y="1738077"/>
                  <a:pt x="1806485" y="1763055"/>
                  <a:pt x="1814286" y="1786458"/>
                </a:cubicBezTo>
                <a:cubicBezTo>
                  <a:pt x="1821128" y="1806984"/>
                  <a:pt x="1837740" y="1823609"/>
                  <a:pt x="1843315" y="1844515"/>
                </a:cubicBezTo>
                <a:cubicBezTo>
                  <a:pt x="1857252" y="1896780"/>
                  <a:pt x="1860609" y="1951369"/>
                  <a:pt x="1872343" y="2004173"/>
                </a:cubicBezTo>
                <a:cubicBezTo>
                  <a:pt x="1884819" y="2060317"/>
                  <a:pt x="1911917" y="2137407"/>
                  <a:pt x="1930400" y="2192858"/>
                </a:cubicBezTo>
                <a:cubicBezTo>
                  <a:pt x="1935652" y="2245372"/>
                  <a:pt x="1960704" y="2378992"/>
                  <a:pt x="1930400" y="2439601"/>
                </a:cubicBezTo>
                <a:cubicBezTo>
                  <a:pt x="1915101" y="2470200"/>
                  <a:pt x="1887532" y="2495200"/>
                  <a:pt x="1857829" y="2512173"/>
                </a:cubicBezTo>
                <a:cubicBezTo>
                  <a:pt x="1814155" y="2537129"/>
                  <a:pt x="1663245" y="2571704"/>
                  <a:pt x="1611086" y="2584744"/>
                </a:cubicBezTo>
                <a:cubicBezTo>
                  <a:pt x="1446591" y="2579906"/>
                  <a:pt x="1281682" y="2582852"/>
                  <a:pt x="1117600" y="2570230"/>
                </a:cubicBezTo>
                <a:cubicBezTo>
                  <a:pt x="1091623" y="2568232"/>
                  <a:pt x="1067969" y="2553553"/>
                  <a:pt x="1045029" y="2541201"/>
                </a:cubicBezTo>
                <a:cubicBezTo>
                  <a:pt x="1004842" y="2519562"/>
                  <a:pt x="961189" y="2500904"/>
                  <a:pt x="928915" y="2468630"/>
                </a:cubicBezTo>
                <a:cubicBezTo>
                  <a:pt x="874554" y="2414269"/>
                  <a:pt x="904845" y="2431578"/>
                  <a:pt x="841829" y="2410573"/>
                </a:cubicBezTo>
                <a:cubicBezTo>
                  <a:pt x="816322" y="2334051"/>
                  <a:pt x="844173" y="2395968"/>
                  <a:pt x="783772" y="2323487"/>
                </a:cubicBezTo>
                <a:cubicBezTo>
                  <a:pt x="679710" y="2198613"/>
                  <a:pt x="850653" y="2378772"/>
                  <a:pt x="711200" y="2221887"/>
                </a:cubicBezTo>
                <a:cubicBezTo>
                  <a:pt x="597331" y="2093784"/>
                  <a:pt x="673836" y="2207993"/>
                  <a:pt x="595086" y="2076744"/>
                </a:cubicBezTo>
                <a:cubicBezTo>
                  <a:pt x="590248" y="2052554"/>
                  <a:pt x="584985" y="2028444"/>
                  <a:pt x="580572" y="2004173"/>
                </a:cubicBezTo>
                <a:cubicBezTo>
                  <a:pt x="575307" y="1975219"/>
                  <a:pt x="572441" y="1945815"/>
                  <a:pt x="566057" y="1917087"/>
                </a:cubicBezTo>
                <a:cubicBezTo>
                  <a:pt x="562738" y="1902152"/>
                  <a:pt x="556381" y="1888058"/>
                  <a:pt x="551543" y="1873544"/>
                </a:cubicBezTo>
                <a:cubicBezTo>
                  <a:pt x="556381" y="1791296"/>
                  <a:pt x="554925" y="1708435"/>
                  <a:pt x="566057" y="1626801"/>
                </a:cubicBezTo>
                <a:cubicBezTo>
                  <a:pt x="577259" y="1544650"/>
                  <a:pt x="621856" y="1545360"/>
                  <a:pt x="653143" y="1467144"/>
                </a:cubicBezTo>
                <a:cubicBezTo>
                  <a:pt x="687854" y="1380368"/>
                  <a:pt x="673933" y="1419290"/>
                  <a:pt x="696686" y="1351030"/>
                </a:cubicBezTo>
                <a:cubicBezTo>
                  <a:pt x="704418" y="1242786"/>
                  <a:pt x="725715" y="962458"/>
                  <a:pt x="725715" y="872058"/>
                </a:cubicBezTo>
                <a:cubicBezTo>
                  <a:pt x="725715" y="569521"/>
                  <a:pt x="781550" y="503953"/>
                  <a:pt x="653143" y="320515"/>
                </a:cubicBezTo>
                <a:cubicBezTo>
                  <a:pt x="641372" y="303699"/>
                  <a:pt x="624114" y="291487"/>
                  <a:pt x="609600" y="276973"/>
                </a:cubicBezTo>
                <a:cubicBezTo>
                  <a:pt x="604762" y="262459"/>
                  <a:pt x="605161" y="244944"/>
                  <a:pt x="595086" y="233430"/>
                </a:cubicBezTo>
                <a:cubicBezTo>
                  <a:pt x="532610" y="162029"/>
                  <a:pt x="512316" y="162584"/>
                  <a:pt x="435429" y="131830"/>
                </a:cubicBezTo>
                <a:cubicBezTo>
                  <a:pt x="420915" y="112478"/>
                  <a:pt x="410253" y="89516"/>
                  <a:pt x="391886" y="73773"/>
                </a:cubicBezTo>
                <a:cubicBezTo>
                  <a:pt x="375458" y="59692"/>
                  <a:pt x="351435" y="57320"/>
                  <a:pt x="333829" y="44744"/>
                </a:cubicBezTo>
                <a:cubicBezTo>
                  <a:pt x="317126" y="32813"/>
                  <a:pt x="304800" y="15715"/>
                  <a:pt x="290286" y="1201"/>
                </a:cubicBezTo>
                <a:cubicBezTo>
                  <a:pt x="237067" y="6039"/>
                  <a:pt x="181704" y="0"/>
                  <a:pt x="130629" y="15715"/>
                </a:cubicBezTo>
                <a:cubicBezTo>
                  <a:pt x="113956" y="20845"/>
                  <a:pt x="112767" y="45857"/>
                  <a:pt x="101600" y="59258"/>
                </a:cubicBezTo>
                <a:cubicBezTo>
                  <a:pt x="88459" y="75027"/>
                  <a:pt x="76924" y="94715"/>
                  <a:pt x="58057" y="102801"/>
                </a:cubicBezTo>
                <a:cubicBezTo>
                  <a:pt x="40269" y="110424"/>
                  <a:pt x="19352" y="102801"/>
                  <a:pt x="0" y="1028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38"/>
          <p:cNvCxnSpPr>
            <a:stCxn id="772" idx="40"/>
          </p:cNvCxnSpPr>
          <p:nvPr/>
        </p:nvCxnSpPr>
        <p:spPr>
          <a:xfrm flipH="1">
            <a:off x="3293640" y="3104640"/>
            <a:ext cx="254880" cy="94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4" name="TextBox 18"/>
          <p:cNvSpPr/>
          <p:nvPr/>
        </p:nvSpPr>
        <p:spPr>
          <a:xfrm>
            <a:off x="406440" y="549900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1"/>
          <p:cNvSpPr/>
          <p:nvPr/>
        </p:nvSpPr>
        <p:spPr>
          <a:xfrm>
            <a:off x="4851360" y="4319640"/>
            <a:ext cx="177840" cy="19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37"/>
          <p:cNvSpPr/>
          <p:nvPr/>
        </p:nvSpPr>
        <p:spPr>
          <a:xfrm>
            <a:off x="5486400" y="3179880"/>
            <a:ext cx="177840" cy="193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6020640" y="484344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Hueco l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(contribuye a “p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3"/>
          <p:cNvCxnSpPr/>
          <p:nvPr/>
        </p:nvCxnSpPr>
        <p:spPr>
          <a:xfrm flipH="1" flipV="1">
            <a:off x="5110920" y="4494960"/>
            <a:ext cx="909000" cy="420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1360" y="6624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resiones Matemáticas para la </a:t>
            </a:r>
            <a:r>
              <a:rPr b="1" lang="en-US" sz="4000" spc="-1" strike="noStrike">
                <a:solidFill>
                  <a:srgbClr val="8585e0"/>
                </a:solidFill>
                <a:latin typeface="Arial"/>
              </a:rPr>
              <a:t>Densidad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3"/>
              <p:cNvSpPr txBox="1"/>
              <p:nvPr/>
            </p:nvSpPr>
            <p:spPr>
              <a:xfrm>
                <a:off x="2654280" y="2182680"/>
                <a:ext cx="3487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81" name="Straight Arrow Connector 5"/>
          <p:cNvCxnSpPr/>
          <p:nvPr/>
        </p:nvCxnSpPr>
        <p:spPr>
          <a:xfrm>
            <a:off x="2252520" y="1674360"/>
            <a:ext cx="5486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2" name="Straight Arrow Connector 7"/>
          <p:cNvCxnSpPr/>
          <p:nvPr/>
        </p:nvCxnSpPr>
        <p:spPr>
          <a:xfrm flipH="1">
            <a:off x="3801600" y="1549080"/>
            <a:ext cx="3470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3" name="Straight Arrow Connector 11"/>
          <p:cNvCxnSpPr/>
          <p:nvPr/>
        </p:nvCxnSpPr>
        <p:spPr>
          <a:xfrm flipH="1">
            <a:off x="5687640" y="1549080"/>
            <a:ext cx="5212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4" name="Straight Arrow Connector 13"/>
          <p:cNvCxnSpPr/>
          <p:nvPr/>
        </p:nvCxnSpPr>
        <p:spPr>
          <a:xfrm flipV="1">
            <a:off x="3192120" y="2611080"/>
            <a:ext cx="639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5" name="Straight Arrow Connector 15"/>
          <p:cNvCxnSpPr/>
          <p:nvPr/>
        </p:nvCxnSpPr>
        <p:spPr>
          <a:xfrm flipH="1" flipV="1">
            <a:off x="44748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7"/>
          <p:cNvCxnSpPr/>
          <p:nvPr/>
        </p:nvCxnSpPr>
        <p:spPr>
          <a:xfrm flipV="1">
            <a:off x="5169960" y="2836440"/>
            <a:ext cx="76140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7" name="Content Placeholder 2"/>
          <p:cNvSpPr/>
          <p:nvPr/>
        </p:nvSpPr>
        <p:spPr>
          <a:xfrm>
            <a:off x="685800" y="3755880"/>
            <a:ext cx="7772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La densidad de corriente 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 más útil que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corrient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rque no depende del tamañ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y p dependen de la temperatura para un semiconductor intrínse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y p dependen del dopaje para un semiconductor extrínse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son l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Arial"/>
              </a:rPr>
              <a:t>parámetros de mo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unidades se u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Qué hace con que parezcan met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24"/>
          <p:cNvCxnSpPr/>
          <p:nvPr/>
        </p:nvCxnSpPr>
        <p:spPr>
          <a:xfrm>
            <a:off x="4730760" y="2065320"/>
            <a:ext cx="45792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9" name="Rectangle 25"/>
          <p:cNvSpPr/>
          <p:nvPr/>
        </p:nvSpPr>
        <p:spPr>
          <a:xfrm>
            <a:off x="4497480" y="347328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2773440" y="1230480"/>
            <a:ext cx="148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electrones libres por unidad de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4437000" y="1224000"/>
            <a:ext cx="1487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huecos libres por unidad de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2035080" y="30592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elec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Por qué los Semiconductores son tan especiales? Por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Content Placeholder 2"/>
          <p:cNvSpPr/>
          <p:nvPr/>
        </p:nvSpPr>
        <p:spPr>
          <a:xfrm>
            <a:off x="496800" y="1547640"/>
            <a:ext cx="82663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n cambiar dramáticamente su conductividad si están dopados (semiconductores extrínsec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n crear regiones de tipo n y p por dopaje diferencial en zonas distintas del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puede usar estas regiones para hacer uniones (“junctions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campo eléctrico significati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ede existir dentro del semiconductor. Esto no ocurre en un metal una vez que se aleja de </a:t>
            </a: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su superfi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puede aplicar campos externos para modular n y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585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85e0"/>
                </a:solidFill>
                <a:latin typeface="Arial"/>
                <a:ea typeface="Arial"/>
              </a:rPr>
              <a:t>No se puede modular n y p en un me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2441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unos Ejemplos de Semicondu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es In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o (C), Silicio (Si), Germanio (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4"/>
          <p:cNvGraphicFramePr/>
          <p:nvPr/>
        </p:nvGraphicFramePr>
        <p:xfrm>
          <a:off x="4114800" y="3276720"/>
          <a:ext cx="66024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276720"/>
                    <a:ext cx="6602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Object 4"/>
          <p:cNvGraphicFramePr/>
          <p:nvPr/>
        </p:nvGraphicFramePr>
        <p:xfrm>
          <a:off x="1890720" y="2462040"/>
          <a:ext cx="1400040" cy="26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2462040"/>
                    <a:ext cx="1400040" cy="26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Materiales del grupo III/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La mayoría de los compuestos semiconductores están formados de elementos de los grupos III/V de la tabla perió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Arseniuro de Galio (Ga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 el material del grupo III/V más comú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estos Inorgánicos Semiconductore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3"/>
          <p:cNvGraphicFramePr/>
          <p:nvPr/>
        </p:nvGraphicFramePr>
        <p:xfrm>
          <a:off x="3124080" y="2209680"/>
          <a:ext cx="541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541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48320" y="1794960"/>
            <a:ext cx="4114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de los grupos II/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compuestos hechos de los grupos IIB/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comunes de los grupos II/VI son Telururo de cadmio (CdTe) y seleniuro de cinc (Zn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Object 5"/>
          <p:cNvGraphicFramePr/>
          <p:nvPr/>
        </p:nvGraphicFramePr>
        <p:xfrm>
          <a:off x="2133720" y="2209680"/>
          <a:ext cx="60948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09680"/>
                    <a:ext cx="609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estos Inorgánicos Semiconductor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86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más de los materiales de los grupos III/V y II/VI, se pueden combinar los semiconductores intrínsecos para lograr materiales con las características eléctricas dese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uro de silicio (SiGe) y carburo de silicio (SiC) son algunos ejemplos de tales co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4"/>
          <p:cNvGraphicFramePr/>
          <p:nvPr/>
        </p:nvGraphicFramePr>
        <p:xfrm>
          <a:off x="2362320" y="2313000"/>
          <a:ext cx="66024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13000"/>
                    <a:ext cx="6602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2560" y="75960"/>
            <a:ext cx="90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gunos Semi-Conductor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ánic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10"/>
          <p:cNvGrpSpPr/>
          <p:nvPr/>
        </p:nvGrpSpPr>
        <p:grpSpPr>
          <a:xfrm>
            <a:off x="1371600" y="1797120"/>
            <a:ext cx="6030720" cy="4238280"/>
            <a:chOff x="1371600" y="1797120"/>
            <a:chExt cx="6030720" cy="4238280"/>
          </a:xfrm>
        </p:grpSpPr>
        <p:pic>
          <p:nvPicPr>
            <p:cNvPr id="818" name="Picture 5" descr="OrgSemiCond.tif"/>
            <p:cNvPicPr/>
            <p:nvPr/>
          </p:nvPicPr>
          <p:blipFill>
            <a:blip r:embed="rId1"/>
            <a:stretch/>
          </p:blipFill>
          <p:spPr>
            <a:xfrm>
              <a:off x="1371600" y="1797120"/>
              <a:ext cx="5874840" cy="37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6"/>
            <p:cNvSpPr/>
            <p:nvPr/>
          </p:nvSpPr>
          <p:spPr>
            <a:xfrm>
              <a:off x="2058480" y="257004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tace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Box 7"/>
            <p:cNvSpPr/>
            <p:nvPr/>
          </p:nvSpPr>
          <p:spPr>
            <a:xfrm>
              <a:off x="1567440" y="5454720"/>
              <a:ext cx="212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alocianina de co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Box 8"/>
            <p:cNvSpPr/>
            <p:nvPr/>
          </p:nvSpPr>
          <p:spPr>
            <a:xfrm>
              <a:off x="5534280" y="480852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(fenil vinilen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Box 9"/>
            <p:cNvSpPr/>
            <p:nvPr/>
          </p:nvSpPr>
          <p:spPr>
            <a:xfrm>
              <a:off x="5538960" y="2751120"/>
              <a:ext cx="186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i(3-hexiltiofen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3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TextBox 11"/>
          <p:cNvSpPr/>
          <p:nvPr/>
        </p:nvSpPr>
        <p:spPr>
          <a:xfrm>
            <a:off x="534600" y="12952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Moléculas Orgánicas (pequeñ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Box 12"/>
          <p:cNvSpPr/>
          <p:nvPr/>
        </p:nvSpPr>
        <p:spPr>
          <a:xfrm>
            <a:off x="5281200" y="129528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  <a:ea typeface="Arial"/>
              </a:rPr>
              <a:t>Polímer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10"/>
          <p:cNvSpPr/>
          <p:nvPr/>
        </p:nvSpPr>
        <p:spPr>
          <a:xfrm>
            <a:off x="334800" y="60372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Public Domain: Image Generated by CNEU Staff for free 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0" y="2433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Y qué es Dopa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85e0"/>
                </a:solidFill>
                <a:latin typeface="Arial"/>
              </a:rPr>
              <a:t>Dopaj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Cambio de las concentraciones de Huecos y Electrones en los Semicondu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7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p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introducir una impureza (dopante) en u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miconductor inorgán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cambiar sus propiedades electrónicas.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 emplean concentraciones bajas---no se trata de hacer una al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r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una oxidación parcial o añadir i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emiconductor orgáni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cambiar sus propiedades electrón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grado de cambio de las propiedades eléctricas depende de la concentración relativa del dopante en 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paje proporciona una oportunidad úni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r la resis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r conducción por electrones o hue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cionar el nivel de Fe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 uniones (“junction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urezas vs. Contamin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55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de una perspectiva de un semiconductor, es una sustancia foránea, tal como un dopante, puesta intencionalmente para lograr cierto resultado dese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am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ustancia foránea que se encuentra en el material de modo no intencional, normalmente en detrimento de su funcionamento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s de tip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dopantes de tipo P generan huecos porque el dopante usado tiene un electrón de valencia menos que el sil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caso del Si, el hueco proviene de que el silicio no puede completar el octeto de electrones de val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 “P” se refiere a que el hueco tiene carga posi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pantes de tipo P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miembros del grupo IIIA de la tabla peri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n 3 electrones de valencia, en vez de los 4 del sil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lemento básico es el boro 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pantes de tipo P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750960" y="16146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 átomos se enlazan covalentemente (comparten sus electrones de valencia).  El boro sólo tiene 3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ra compartir y no hará uno de los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27"/>
          <p:cNvGrpSpPr/>
          <p:nvPr/>
        </p:nvGrpSpPr>
        <p:grpSpPr>
          <a:xfrm>
            <a:off x="1442880" y="3408480"/>
            <a:ext cx="4670640" cy="1885680"/>
            <a:chOff x="1442880" y="3408480"/>
            <a:chExt cx="4670640" cy="1885680"/>
          </a:xfrm>
        </p:grpSpPr>
        <p:sp>
          <p:nvSpPr>
            <p:cNvPr id="838" name="Oval 3"/>
            <p:cNvSpPr/>
            <p:nvPr/>
          </p:nvSpPr>
          <p:spPr>
            <a:xfrm>
              <a:off x="4191120" y="4281480"/>
              <a:ext cx="914400" cy="9144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"/>
            <p:cNvSpPr/>
            <p:nvPr/>
          </p:nvSpPr>
          <p:spPr>
            <a:xfrm>
              <a:off x="4572000" y="511956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11"/>
            <p:cNvSpPr/>
            <p:nvPr/>
          </p:nvSpPr>
          <p:spPr>
            <a:xfrm>
              <a:off x="4572000" y="420516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12"/>
            <p:cNvSpPr/>
            <p:nvPr/>
          </p:nvSpPr>
          <p:spPr>
            <a:xfrm>
              <a:off x="3271680" y="4305240"/>
              <a:ext cx="914400" cy="914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7"/>
            <p:cNvGrpSpPr/>
            <p:nvPr/>
          </p:nvGrpSpPr>
          <p:grpSpPr>
            <a:xfrm>
              <a:off x="5123160" y="4172040"/>
              <a:ext cx="990360" cy="1066320"/>
              <a:chOff x="5123160" y="4172040"/>
              <a:chExt cx="990360" cy="1066320"/>
            </a:xfrm>
          </p:grpSpPr>
          <p:sp>
            <p:nvSpPr>
              <p:cNvPr id="843" name="Oval 4"/>
              <p:cNvSpPr/>
              <p:nvPr/>
            </p:nvSpPr>
            <p:spPr>
              <a:xfrm>
                <a:off x="5123160" y="4248000"/>
                <a:ext cx="914400" cy="914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6"/>
              <p:cNvSpPr/>
              <p:nvPr/>
            </p:nvSpPr>
            <p:spPr>
              <a:xfrm>
                <a:off x="5504040" y="508608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Oval 7"/>
              <p:cNvSpPr/>
              <p:nvPr/>
            </p:nvSpPr>
            <p:spPr>
              <a:xfrm>
                <a:off x="5961240" y="462888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Oval 8"/>
              <p:cNvSpPr/>
              <p:nvPr/>
            </p:nvSpPr>
            <p:spPr>
              <a:xfrm>
                <a:off x="5504040" y="417204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9"/>
              <p:cNvSpPr/>
              <p:nvPr/>
            </p:nvSpPr>
            <p:spPr>
              <a:xfrm>
                <a:off x="5330520" y="446400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Text Box 21"/>
            <p:cNvSpPr/>
            <p:nvPr/>
          </p:nvSpPr>
          <p:spPr>
            <a:xfrm>
              <a:off x="4470120" y="44971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Group 26"/>
            <p:cNvGrpSpPr/>
            <p:nvPr/>
          </p:nvGrpSpPr>
          <p:grpSpPr>
            <a:xfrm>
              <a:off x="2269800" y="4150800"/>
              <a:ext cx="1648080" cy="1143360"/>
              <a:chOff x="2269800" y="4150800"/>
              <a:chExt cx="1648080" cy="1143360"/>
            </a:xfrm>
          </p:grpSpPr>
          <p:sp>
            <p:nvSpPr>
              <p:cNvPr id="850" name="Oval 14"/>
              <p:cNvSpPr/>
              <p:nvPr/>
            </p:nvSpPr>
            <p:spPr>
              <a:xfrm>
                <a:off x="3641400" y="51415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15"/>
              <p:cNvSpPr/>
              <p:nvPr/>
            </p:nvSpPr>
            <p:spPr>
              <a:xfrm>
                <a:off x="3184200" y="46843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16"/>
              <p:cNvSpPr/>
              <p:nvPr/>
            </p:nvSpPr>
            <p:spPr>
              <a:xfrm>
                <a:off x="3641400" y="4227120"/>
                <a:ext cx="151920" cy="152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467520" y="451944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22"/>
              <p:cNvSpPr/>
              <p:nvPr/>
            </p:nvSpPr>
            <p:spPr>
              <a:xfrm flipH="1" flipV="1">
                <a:off x="2269800" y="415080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Text Box 23"/>
            <p:cNvSpPr/>
            <p:nvPr/>
          </p:nvSpPr>
          <p:spPr>
            <a:xfrm>
              <a:off x="1442880" y="386712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24"/>
            <p:cNvSpPr/>
            <p:nvPr/>
          </p:nvSpPr>
          <p:spPr>
            <a:xfrm flipV="1">
              <a:off x="4249800" y="3757680"/>
              <a:ext cx="66204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4855680" y="340848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17"/>
            <p:cNvSpPr/>
            <p:nvPr/>
          </p:nvSpPr>
          <p:spPr>
            <a:xfrm>
              <a:off x="4102200" y="47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4113360" y="45356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9"/>
            <p:cNvSpPr/>
            <p:nvPr/>
          </p:nvSpPr>
          <p:spPr>
            <a:xfrm>
              <a:off x="5032440" y="47592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10"/>
            <p:cNvSpPr/>
            <p:nvPr/>
          </p:nvSpPr>
          <p:spPr>
            <a:xfrm>
              <a:off x="5032440" y="452268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Rectangle 44"/>
          <p:cNvSpPr/>
          <p:nvPr/>
        </p:nvSpPr>
        <p:spPr>
          <a:xfrm>
            <a:off x="425520" y="5637240"/>
            <a:ext cx="367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 de tipo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4"/>
          <p:cNvSpPr/>
          <p:nvPr/>
        </p:nvSpPr>
        <p:spPr>
          <a:xfrm>
            <a:off x="372960" y="18273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 átomos enlazarán covalentemente. El fósforo tiene 5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 valencia lo que resulta en un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enlazado, sobr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27"/>
          <p:cNvGrpSpPr/>
          <p:nvPr/>
        </p:nvGrpSpPr>
        <p:grpSpPr>
          <a:xfrm>
            <a:off x="3029040" y="2852640"/>
            <a:ext cx="5005800" cy="2247840"/>
            <a:chOff x="3029040" y="2852640"/>
            <a:chExt cx="5005800" cy="2247840"/>
          </a:xfrm>
        </p:grpSpPr>
        <p:sp>
          <p:nvSpPr>
            <p:cNvPr id="866" name="Oval 4"/>
            <p:cNvSpPr/>
            <p:nvPr/>
          </p:nvSpPr>
          <p:spPr>
            <a:xfrm>
              <a:off x="4024080" y="4086000"/>
              <a:ext cx="914040" cy="9144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5014800" y="362880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4405320" y="492444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7"/>
            <p:cNvSpPr/>
            <p:nvPr/>
          </p:nvSpPr>
          <p:spPr>
            <a:xfrm>
              <a:off x="4405320" y="401004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Group 26"/>
            <p:cNvGrpSpPr/>
            <p:nvPr/>
          </p:nvGrpSpPr>
          <p:grpSpPr>
            <a:xfrm>
              <a:off x="4956120" y="4033800"/>
              <a:ext cx="990000" cy="1066680"/>
              <a:chOff x="4956120" y="4033800"/>
              <a:chExt cx="990000" cy="1066680"/>
            </a:xfrm>
          </p:grpSpPr>
          <p:sp>
            <p:nvSpPr>
              <p:cNvPr id="871" name="Oval 5"/>
              <p:cNvSpPr/>
              <p:nvPr/>
            </p:nvSpPr>
            <p:spPr>
              <a:xfrm>
                <a:off x="4956120" y="4110120"/>
                <a:ext cx="914040" cy="914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14"/>
              <p:cNvSpPr/>
              <p:nvPr/>
            </p:nvSpPr>
            <p:spPr>
              <a:xfrm>
                <a:off x="5337000" y="49482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15"/>
              <p:cNvSpPr/>
              <p:nvPr/>
            </p:nvSpPr>
            <p:spPr>
              <a:xfrm>
                <a:off x="5337000" y="40338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16"/>
              <p:cNvSpPr/>
              <p:nvPr/>
            </p:nvSpPr>
            <p:spPr>
              <a:xfrm>
                <a:off x="5794200" y="4491000"/>
                <a:ext cx="15192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Text Box 19"/>
              <p:cNvSpPr/>
              <p:nvPr/>
            </p:nvSpPr>
            <p:spPr>
              <a:xfrm>
                <a:off x="5177160" y="431640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5"/>
            <p:cNvGrpSpPr/>
            <p:nvPr/>
          </p:nvGrpSpPr>
          <p:grpSpPr>
            <a:xfrm>
              <a:off x="3029040" y="3987720"/>
              <a:ext cx="990360" cy="1066680"/>
              <a:chOff x="3029040" y="3987720"/>
              <a:chExt cx="990360" cy="1066680"/>
            </a:xfrm>
          </p:grpSpPr>
          <p:sp>
            <p:nvSpPr>
              <p:cNvPr id="877" name="Oval 3"/>
              <p:cNvSpPr/>
              <p:nvPr/>
            </p:nvSpPr>
            <p:spPr>
              <a:xfrm>
                <a:off x="3105000" y="4074840"/>
                <a:ext cx="914400" cy="914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6"/>
              <p:cNvSpPr/>
              <p:nvPr/>
            </p:nvSpPr>
            <p:spPr>
              <a:xfrm>
                <a:off x="3486240" y="39877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3486240" y="49021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18"/>
              <p:cNvSpPr/>
              <p:nvPr/>
            </p:nvSpPr>
            <p:spPr>
              <a:xfrm>
                <a:off x="3029040" y="444492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Text Box 20"/>
              <p:cNvSpPr/>
              <p:nvPr/>
            </p:nvSpPr>
            <p:spPr>
              <a:xfrm>
                <a:off x="3337920" y="4292280"/>
                <a:ext cx="45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Text Box 21"/>
            <p:cNvSpPr/>
            <p:nvPr/>
          </p:nvSpPr>
          <p:spPr>
            <a:xfrm>
              <a:off x="4332240" y="43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22"/>
            <p:cNvSpPr/>
            <p:nvPr/>
          </p:nvSpPr>
          <p:spPr>
            <a:xfrm>
              <a:off x="6601320" y="285264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ón ex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 flipV="1">
              <a:off x="5167080" y="31716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3922560" y="431460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3933720" y="456228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3"/>
            <p:cNvSpPr/>
            <p:nvPr/>
          </p:nvSpPr>
          <p:spPr>
            <a:xfrm>
              <a:off x="4875120" y="4381560"/>
              <a:ext cx="15192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4875120" y="4628880"/>
              <a:ext cx="15192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44"/>
          <p:cNvSpPr/>
          <p:nvPr/>
        </p:nvSpPr>
        <p:spPr>
          <a:xfrm>
            <a:off x="231840" y="5362560"/>
            <a:ext cx="356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090080"/>
            <a:ext cx="8481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Propiedades eléctrica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nducción de Corriente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olarización (Propi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léctr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onducción de electrones y de hue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61720" y="-36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men de los Dopantes para el Sili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372960" y="2131920"/>
          <a:ext cx="8410680" cy="2346480"/>
        </p:xfrm>
        <a:graphic>
          <a:graphicData uri="http://schemas.openxmlformats.org/drawingml/2006/table">
            <a:tbl>
              <a:tblPr/>
              <a:tblGrid>
                <a:gridCol w="3724200"/>
                <a:gridCol w="2343240"/>
                <a:gridCol w="2343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r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, As, S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inología del Dop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pt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antes para el Sil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480960" y="1432080"/>
          <a:ext cx="8204400" cy="5003640"/>
        </p:xfrm>
        <a:graphic>
          <a:graphicData uri="http://schemas.openxmlformats.org/drawingml/2006/table">
            <a:tbl>
              <a:tblPr/>
              <a:tblGrid>
                <a:gridCol w="2733840"/>
                <a:gridCol w="2736720"/>
                <a:gridCol w="27338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op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Fu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ombre quím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rsé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sH</a:t>
                      </a:r>
                      <a:r>
                        <a:rPr b="0" lang="en-US" sz="2000" spc="-1" strike="noStrike" baseline="-25000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rs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PH</a:t>
                      </a:r>
                      <a:r>
                        <a:rPr b="0" lang="en-US" sz="2000" spc="-1" strike="noStrike" baseline="-25000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osf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POCl</a:t>
                      </a:r>
                      <a:r>
                        <a:rPr b="0" lang="en-US" sz="2000" spc="-1" strike="noStrike" baseline="-25000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Oxicloruro de Fósf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Dibor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F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rifluoruro de 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BBr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ribromuro de B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Ant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SbCl</a:t>
                      </a:r>
                      <a:r>
                        <a:rPr b="0" lang="en-US" sz="2000" spc="-1" strike="noStrike" baseline="-25000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33"/>
                          </a:solidFill>
                          <a:latin typeface="Arial"/>
                          <a:ea typeface="Arial"/>
                        </a:rPr>
                        <a:t>Pentacloruro de Ant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simiento Termal Rápido - 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08080" y="1429920"/>
            <a:ext cx="4363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e tratamiento se usa para reparar la estructura cristalina y ativar el dopante posibilitándole localizarse e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  <a:ea typeface="ＭＳ Ｐゴシック"/>
              </a:rPr>
              <a:t>sitios de substitu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unos sistemas pueden dejar fluir un gas durante 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ípicamente se hace un calentamiento rápido de la muestra hasta 1200 °C (a      200 °C/sec).  Por limitaciones de diseño, el proceso dura “minut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hornos son adecuados para tiempos de proceso más demo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0BB-9C33-4108-925F-398DFB85A548}" type="slidenum"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icture 5" descr="IMG_0598.JPG"/>
          <p:cNvPicPr/>
          <p:nvPr/>
        </p:nvPicPr>
        <p:blipFill>
          <a:blip r:embed="rId1"/>
          <a:stretch/>
        </p:blipFill>
        <p:spPr>
          <a:xfrm>
            <a:off x="4495680" y="1417680"/>
            <a:ext cx="4191120" cy="5191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4"/>
          <p:cNvSpPr/>
          <p:nvPr/>
        </p:nvSpPr>
        <p:spPr>
          <a:xfrm>
            <a:off x="244440" y="6315120"/>
            <a:ext cx="355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2" descr=""/>
          <p:cNvPicPr/>
          <p:nvPr/>
        </p:nvPicPr>
        <p:blipFill>
          <a:blip r:embed="rId1"/>
          <a:stretch/>
        </p:blipFill>
        <p:spPr>
          <a:xfrm>
            <a:off x="1623960" y="1471680"/>
            <a:ext cx="5896080" cy="4724280"/>
          </a:xfrm>
          <a:prstGeom prst="rect">
            <a:avLst/>
          </a:prstGeom>
          <a:ln w="0">
            <a:noFill/>
          </a:ln>
        </p:spPr>
      </p:pic>
      <p:sp>
        <p:nvSpPr>
          <p:cNvPr id="900" name="TextBox 3"/>
          <p:cNvSpPr/>
          <p:nvPr/>
        </p:nvSpPr>
        <p:spPr>
          <a:xfrm>
            <a:off x="265320" y="6213600"/>
            <a:ext cx="693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hysics of Semiconductor Devices”, S.M. Sze and Kwok K. Ng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edition, John Wiley, Hoboken, NJ, 200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Box 1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Resistividad es Dependiente de la Concentración del Dopante en el Sil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03040" y="28303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aje de Orgánicos: es la oxidación parcial o añadir iones a un semiconductor orgánico para modificar sus propiedades electrónicas.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2"/>
          <p:cNvSpPr/>
          <p:nvPr/>
        </p:nvSpPr>
        <p:spPr>
          <a:xfrm>
            <a:off x="0" y="50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ductividad vs. Concentración de Dopante para un sistema </a:t>
            </a:r>
            <a:r>
              <a:rPr b="1" lang="en-US" sz="3600" spc="-1" strike="noStrike">
                <a:solidFill>
                  <a:srgbClr val="8585e0"/>
                </a:solidFill>
                <a:latin typeface="Arial"/>
                <a:ea typeface="Arial"/>
              </a:rPr>
              <a:t>orgánic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d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3"/>
          <p:cNvSpPr/>
          <p:nvPr/>
        </p:nvSpPr>
        <p:spPr>
          <a:xfrm>
            <a:off x="365760" y="61815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ppl. Phys. Lett.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004,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84(10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 170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Group 6"/>
          <p:cNvGrpSpPr/>
          <p:nvPr/>
        </p:nvGrpSpPr>
        <p:grpSpPr>
          <a:xfrm>
            <a:off x="1343160" y="1808280"/>
            <a:ext cx="6833880" cy="4717800"/>
            <a:chOff x="1343160" y="1808280"/>
            <a:chExt cx="6833880" cy="471780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1343160" y="1808280"/>
              <a:ext cx="683388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Freeform 5"/>
            <p:cNvSpPr/>
            <p:nvPr/>
          </p:nvSpPr>
          <p:spPr>
            <a:xfrm>
              <a:off x="2635560" y="2123640"/>
              <a:ext cx="3772440" cy="2201760"/>
            </a:xfrm>
            <a:custGeom>
              <a:avLst/>
              <a:gdLst>
                <a:gd name="textAreaLeft" fmla="*/ 0 w 3772440"/>
                <a:gd name="textAreaRight" fmla="*/ 3772800 w 3772440"/>
                <a:gd name="textAreaTop" fmla="*/ 0 h 2201760"/>
                <a:gd name="textAreaBottom" fmla="*/ 2202120 h 2201760"/>
              </a:gdLst>
              <a:ahLst/>
              <a:rect l="textAreaLeft" t="textAreaTop" r="textAreaRight" b="textAreaBottom"/>
              <a:pathLst>
                <a:path w="3979572" h="2432511">
                  <a:moveTo>
                    <a:pt x="3825025" y="114314"/>
                  </a:moveTo>
                  <a:cubicBezTo>
                    <a:pt x="3691943" y="110021"/>
                    <a:pt x="3558416" y="113138"/>
                    <a:pt x="3425780" y="101435"/>
                  </a:cubicBezTo>
                  <a:cubicBezTo>
                    <a:pt x="3410362" y="100075"/>
                    <a:pt x="3402433" y="78091"/>
                    <a:pt x="3387144" y="75677"/>
                  </a:cubicBezTo>
                  <a:cubicBezTo>
                    <a:pt x="3319165" y="64943"/>
                    <a:pt x="3249769" y="67091"/>
                    <a:pt x="3181082" y="62798"/>
                  </a:cubicBezTo>
                  <a:cubicBezTo>
                    <a:pt x="2992687" y="0"/>
                    <a:pt x="3144479" y="45707"/>
                    <a:pt x="2665927" y="62798"/>
                  </a:cubicBezTo>
                  <a:cubicBezTo>
                    <a:pt x="2584300" y="65713"/>
                    <a:pt x="2502794" y="71384"/>
                    <a:pt x="2421228" y="75677"/>
                  </a:cubicBezTo>
                  <a:cubicBezTo>
                    <a:pt x="2346169" y="125717"/>
                    <a:pt x="2423522" y="87302"/>
                    <a:pt x="2318197" y="88556"/>
                  </a:cubicBezTo>
                  <a:lnTo>
                    <a:pt x="218941" y="127192"/>
                  </a:lnTo>
                  <a:cubicBezTo>
                    <a:pt x="134091" y="134906"/>
                    <a:pt x="79996" y="102760"/>
                    <a:pt x="51516" y="178708"/>
                  </a:cubicBezTo>
                  <a:cubicBezTo>
                    <a:pt x="43830" y="199204"/>
                    <a:pt x="44397" y="221984"/>
                    <a:pt x="38637" y="243102"/>
                  </a:cubicBezTo>
                  <a:cubicBezTo>
                    <a:pt x="31493" y="269296"/>
                    <a:pt x="21465" y="294617"/>
                    <a:pt x="12879" y="320375"/>
                  </a:cubicBezTo>
                  <a:lnTo>
                    <a:pt x="0" y="359012"/>
                  </a:lnTo>
                  <a:cubicBezTo>
                    <a:pt x="4293" y="500680"/>
                    <a:pt x="7432" y="642387"/>
                    <a:pt x="12879" y="784015"/>
                  </a:cubicBezTo>
                  <a:cubicBezTo>
                    <a:pt x="22294" y="1028815"/>
                    <a:pt x="6900" y="953282"/>
                    <a:pt x="38637" y="1080229"/>
                  </a:cubicBezTo>
                  <a:cubicBezTo>
                    <a:pt x="42930" y="1324928"/>
                    <a:pt x="43751" y="1569712"/>
                    <a:pt x="51516" y="1814325"/>
                  </a:cubicBezTo>
                  <a:cubicBezTo>
                    <a:pt x="52345" y="1840425"/>
                    <a:pt x="56136" y="1866825"/>
                    <a:pt x="64394" y="1891598"/>
                  </a:cubicBezTo>
                  <a:cubicBezTo>
                    <a:pt x="75900" y="1926116"/>
                    <a:pt x="107865" y="1941969"/>
                    <a:pt x="128789" y="1968871"/>
                  </a:cubicBezTo>
                  <a:cubicBezTo>
                    <a:pt x="147795" y="1993307"/>
                    <a:pt x="166460" y="2018455"/>
                    <a:pt x="180304" y="2046144"/>
                  </a:cubicBezTo>
                  <a:cubicBezTo>
                    <a:pt x="265739" y="2217014"/>
                    <a:pt x="162086" y="2003637"/>
                    <a:pt x="218941" y="2136297"/>
                  </a:cubicBezTo>
                  <a:cubicBezTo>
                    <a:pt x="226504" y="2153943"/>
                    <a:pt x="237136" y="2170166"/>
                    <a:pt x="244699" y="2187812"/>
                  </a:cubicBezTo>
                  <a:cubicBezTo>
                    <a:pt x="260411" y="2224473"/>
                    <a:pt x="252398" y="2234148"/>
                    <a:pt x="283335" y="2265085"/>
                  </a:cubicBezTo>
                  <a:cubicBezTo>
                    <a:pt x="311525" y="2293275"/>
                    <a:pt x="365239" y="2308099"/>
                    <a:pt x="399245" y="2316601"/>
                  </a:cubicBezTo>
                  <a:cubicBezTo>
                    <a:pt x="422417" y="2322394"/>
                    <a:pt x="494719" y="2341337"/>
                    <a:pt x="515155" y="2342359"/>
                  </a:cubicBezTo>
                  <a:cubicBezTo>
                    <a:pt x="665282" y="2349865"/>
                    <a:pt x="815662" y="2350944"/>
                    <a:pt x="965916" y="2355237"/>
                  </a:cubicBezTo>
                  <a:cubicBezTo>
                    <a:pt x="1000260" y="2359530"/>
                    <a:pt x="1034894" y="2361925"/>
                    <a:pt x="1068947" y="2368116"/>
                  </a:cubicBezTo>
                  <a:cubicBezTo>
                    <a:pt x="1082303" y="2370544"/>
                    <a:pt x="1094025" y="2380300"/>
                    <a:pt x="1107583" y="2380995"/>
                  </a:cubicBezTo>
                  <a:cubicBezTo>
                    <a:pt x="1261986" y="2388913"/>
                    <a:pt x="1416676" y="2389581"/>
                    <a:pt x="1571223" y="2393874"/>
                  </a:cubicBezTo>
                  <a:cubicBezTo>
                    <a:pt x="1592688" y="2398167"/>
                    <a:pt x="1613803" y="2404935"/>
                    <a:pt x="1635617" y="2406753"/>
                  </a:cubicBezTo>
                  <a:lnTo>
                    <a:pt x="1918952" y="2432511"/>
                  </a:lnTo>
                  <a:cubicBezTo>
                    <a:pt x="2009104" y="2428218"/>
                    <a:pt x="2099442" y="2426829"/>
                    <a:pt x="2189409" y="2419632"/>
                  </a:cubicBezTo>
                  <a:cubicBezTo>
                    <a:pt x="2257041" y="2414221"/>
                    <a:pt x="2239814" y="2390793"/>
                    <a:pt x="2318197" y="2380995"/>
                  </a:cubicBezTo>
                  <a:lnTo>
                    <a:pt x="2421228" y="2368116"/>
                  </a:lnTo>
                  <a:lnTo>
                    <a:pt x="2498501" y="2342359"/>
                  </a:lnTo>
                  <a:lnTo>
                    <a:pt x="2537138" y="2329480"/>
                  </a:lnTo>
                  <a:cubicBezTo>
                    <a:pt x="2550017" y="2316601"/>
                    <a:pt x="2565672" y="2305998"/>
                    <a:pt x="2575775" y="2290843"/>
                  </a:cubicBezTo>
                  <a:cubicBezTo>
                    <a:pt x="2583305" y="2279547"/>
                    <a:pt x="2588654" y="2265782"/>
                    <a:pt x="2588654" y="2252206"/>
                  </a:cubicBezTo>
                  <a:cubicBezTo>
                    <a:pt x="2588654" y="2204789"/>
                    <a:pt x="2589155" y="2156029"/>
                    <a:pt x="2575775" y="2110539"/>
                  </a:cubicBezTo>
                  <a:cubicBezTo>
                    <a:pt x="2567040" y="2080840"/>
                    <a:pt x="2541431" y="2059024"/>
                    <a:pt x="2524259" y="2033266"/>
                  </a:cubicBezTo>
                  <a:lnTo>
                    <a:pt x="2472744" y="1955992"/>
                  </a:lnTo>
                  <a:lnTo>
                    <a:pt x="2459865" y="1917356"/>
                  </a:lnTo>
                  <a:cubicBezTo>
                    <a:pt x="2464158" y="1805739"/>
                    <a:pt x="2465059" y="1693940"/>
                    <a:pt x="2472744" y="1582505"/>
                  </a:cubicBezTo>
                  <a:cubicBezTo>
                    <a:pt x="2473678" y="1568962"/>
                    <a:pt x="2479552" y="1556010"/>
                    <a:pt x="2485623" y="1543868"/>
                  </a:cubicBezTo>
                  <a:cubicBezTo>
                    <a:pt x="2492545" y="1530024"/>
                    <a:pt x="2504458" y="1519076"/>
                    <a:pt x="2511380" y="1505232"/>
                  </a:cubicBezTo>
                  <a:cubicBezTo>
                    <a:pt x="2548656" y="1430680"/>
                    <a:pt x="2489655" y="1501198"/>
                    <a:pt x="2562896" y="1427959"/>
                  </a:cubicBezTo>
                  <a:cubicBezTo>
                    <a:pt x="2578402" y="1396947"/>
                    <a:pt x="2616858" y="1314711"/>
                    <a:pt x="2640169" y="1299170"/>
                  </a:cubicBezTo>
                  <a:cubicBezTo>
                    <a:pt x="2735302" y="1235747"/>
                    <a:pt x="2692676" y="1266228"/>
                    <a:pt x="2768958" y="1209018"/>
                  </a:cubicBezTo>
                  <a:cubicBezTo>
                    <a:pt x="2777544" y="1196139"/>
                    <a:pt x="2782629" y="1180051"/>
                    <a:pt x="2794716" y="1170381"/>
                  </a:cubicBezTo>
                  <a:cubicBezTo>
                    <a:pt x="2805316" y="1161900"/>
                    <a:pt x="2821485" y="1164095"/>
                    <a:pt x="2833352" y="1157502"/>
                  </a:cubicBezTo>
                  <a:cubicBezTo>
                    <a:pt x="2860413" y="1142468"/>
                    <a:pt x="2884867" y="1123159"/>
                    <a:pt x="2910625" y="1105987"/>
                  </a:cubicBezTo>
                  <a:lnTo>
                    <a:pt x="2949262" y="1080229"/>
                  </a:lnTo>
                  <a:cubicBezTo>
                    <a:pt x="2962141" y="1071643"/>
                    <a:pt x="2973215" y="1059366"/>
                    <a:pt x="2987899" y="1054471"/>
                  </a:cubicBezTo>
                  <a:cubicBezTo>
                    <a:pt x="3000778" y="1050178"/>
                    <a:pt x="3013365" y="1044884"/>
                    <a:pt x="3026535" y="1041592"/>
                  </a:cubicBezTo>
                  <a:cubicBezTo>
                    <a:pt x="3166320" y="1006647"/>
                    <a:pt x="3302877" y="1021144"/>
                    <a:pt x="3451538" y="1015835"/>
                  </a:cubicBezTo>
                  <a:lnTo>
                    <a:pt x="3528811" y="964319"/>
                  </a:lnTo>
                  <a:cubicBezTo>
                    <a:pt x="3541690" y="955733"/>
                    <a:pt x="3556503" y="949506"/>
                    <a:pt x="3567448" y="938561"/>
                  </a:cubicBezTo>
                  <a:cubicBezTo>
                    <a:pt x="3628562" y="877447"/>
                    <a:pt x="3595925" y="894725"/>
                    <a:pt x="3657600" y="874167"/>
                  </a:cubicBezTo>
                  <a:cubicBezTo>
                    <a:pt x="3670479" y="861288"/>
                    <a:pt x="3681860" y="846712"/>
                    <a:pt x="3696237" y="835530"/>
                  </a:cubicBezTo>
                  <a:cubicBezTo>
                    <a:pt x="3720673" y="816524"/>
                    <a:pt x="3751620" y="805905"/>
                    <a:pt x="3773510" y="784015"/>
                  </a:cubicBezTo>
                  <a:lnTo>
                    <a:pt x="3812147" y="745378"/>
                  </a:lnTo>
                  <a:cubicBezTo>
                    <a:pt x="3844515" y="648270"/>
                    <a:pt x="3800853" y="767964"/>
                    <a:pt x="3850783" y="668105"/>
                  </a:cubicBezTo>
                  <a:cubicBezTo>
                    <a:pt x="3861076" y="647520"/>
                    <a:pt x="3871039" y="597209"/>
                    <a:pt x="3876541" y="577953"/>
                  </a:cubicBezTo>
                  <a:cubicBezTo>
                    <a:pt x="3911061" y="457135"/>
                    <a:pt x="3863025" y="651655"/>
                    <a:pt x="3902299" y="474922"/>
                  </a:cubicBezTo>
                  <a:cubicBezTo>
                    <a:pt x="3906139" y="457643"/>
                    <a:pt x="3907262" y="439238"/>
                    <a:pt x="3915178" y="423406"/>
                  </a:cubicBezTo>
                  <a:cubicBezTo>
                    <a:pt x="3929022" y="395717"/>
                    <a:pt x="3966693" y="346133"/>
                    <a:pt x="3966693" y="346133"/>
                  </a:cubicBezTo>
                  <a:cubicBezTo>
                    <a:pt x="3970986" y="320375"/>
                    <a:pt x="3979572" y="294973"/>
                    <a:pt x="3979572" y="268860"/>
                  </a:cubicBezTo>
                  <a:cubicBezTo>
                    <a:pt x="3979572" y="238504"/>
                    <a:pt x="3977967" y="206893"/>
                    <a:pt x="3966693" y="178708"/>
                  </a:cubicBezTo>
                  <a:cubicBezTo>
                    <a:pt x="3959929" y="161797"/>
                    <a:pt x="3942877" y="150657"/>
                    <a:pt x="3928056" y="140071"/>
                  </a:cubicBezTo>
                  <a:cubicBezTo>
                    <a:pt x="3900207" y="120179"/>
                    <a:pt x="3869433" y="111945"/>
                    <a:pt x="3837904" y="101435"/>
                  </a:cubicBezTo>
                  <a:lnTo>
                    <a:pt x="3773510" y="114314"/>
                  </a:lnTo>
                  <a:lnTo>
                    <a:pt x="3657600" y="1014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dad de Corriente en Sól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2654280" y="2182680"/>
                <a:ext cx="3487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ξ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10" name="Straight Arrow Connector 5"/>
          <p:cNvCxnSpPr/>
          <p:nvPr/>
        </p:nvCxnSpPr>
        <p:spPr>
          <a:xfrm>
            <a:off x="2252520" y="1674360"/>
            <a:ext cx="5486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1" name="Straight Arrow Connector 7"/>
          <p:cNvCxnSpPr/>
          <p:nvPr/>
        </p:nvCxnSpPr>
        <p:spPr>
          <a:xfrm flipH="1">
            <a:off x="3801600" y="1549080"/>
            <a:ext cx="347040" cy="78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2" name="Straight Arrow Connector 11"/>
          <p:cNvCxnSpPr/>
          <p:nvPr/>
        </p:nvCxnSpPr>
        <p:spPr>
          <a:xfrm flipH="1">
            <a:off x="5687640" y="1549080"/>
            <a:ext cx="5212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3" name="Straight Arrow Connector 13"/>
          <p:cNvCxnSpPr/>
          <p:nvPr/>
        </p:nvCxnSpPr>
        <p:spPr>
          <a:xfrm flipV="1">
            <a:off x="2800440" y="2769480"/>
            <a:ext cx="103104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4" name="Straight Arrow Connector 15"/>
          <p:cNvCxnSpPr/>
          <p:nvPr/>
        </p:nvCxnSpPr>
        <p:spPr>
          <a:xfrm flipH="1" flipV="1">
            <a:off x="4474800" y="2836440"/>
            <a:ext cx="51192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5" name="Straight Arrow Connector 17"/>
          <p:cNvCxnSpPr/>
          <p:nvPr/>
        </p:nvCxnSpPr>
        <p:spPr>
          <a:xfrm flipV="1">
            <a:off x="5169960" y="2836440"/>
            <a:ext cx="76140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6" name="Content Placeholder 2"/>
          <p:cNvSpPr/>
          <p:nvPr/>
        </p:nvSpPr>
        <p:spPr>
          <a:xfrm>
            <a:off x="482760" y="3927600"/>
            <a:ext cx="8661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semiconductores inorgánicos y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aislantes, excepto cuando n y p son prácticamente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álido para metales modificados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24"/>
          <p:cNvCxnSpPr/>
          <p:nvPr/>
        </p:nvCxnSpPr>
        <p:spPr>
          <a:xfrm>
            <a:off x="4730760" y="2065320"/>
            <a:ext cx="45792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8" name="Rectangle 25"/>
          <p:cNvSpPr/>
          <p:nvPr/>
        </p:nvSpPr>
        <p:spPr>
          <a:xfrm>
            <a:off x="4497480" y="358776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Camp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2987640" y="134460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electrones libres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4394160" y="1380960"/>
            <a:ext cx="148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Número de huecos libres por volu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30"/>
          <p:cNvSpPr/>
          <p:nvPr/>
        </p:nvSpPr>
        <p:spPr>
          <a:xfrm>
            <a:off x="103968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Densidad de Cor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31"/>
          <p:cNvSpPr/>
          <p:nvPr/>
        </p:nvSpPr>
        <p:spPr>
          <a:xfrm>
            <a:off x="1935000" y="35164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32"/>
          <p:cNvSpPr/>
          <p:nvPr/>
        </p:nvSpPr>
        <p:spPr>
          <a:xfrm>
            <a:off x="6208560" y="1405080"/>
            <a:ext cx="14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85e0"/>
                </a:solidFill>
                <a:latin typeface="Times New Roman"/>
                <a:ea typeface="Arial"/>
              </a:rPr>
              <a:t>Mobilidad del hu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217440" y="1027080"/>
            <a:ext cx="848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s propiedades físicas son las que se pueden observar sin que la sustancia cambie quím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 propiedad física es cualquier propiedad del material que describa una interacción que no sea química con otros materiales o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a propiedad del material puede ser constante o una función de variables tales como temperatura, presión o frecuencia de exci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1760" y="26125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Conducción de Corriente Eléctrica </a:t>
            </a:r>
            <a:br>
              <a:rPr sz="4000"/>
            </a:b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Polarización (Propiedades </a:t>
            </a:r>
            <a:br>
              <a:rPr sz="4000"/>
            </a:br>
            <a:r>
              <a:rPr b="0" lang="en-US" sz="4000" spc="-1" strike="noStrike">
                <a:solidFill>
                  <a:srgbClr val="8585e0"/>
                </a:solidFill>
                <a:latin typeface="Arial"/>
              </a:rPr>
              <a:t>     Dieléctric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"/>
          <p:cNvSpPr/>
          <p:nvPr/>
        </p:nvSpPr>
        <p:spPr>
          <a:xfrm>
            <a:off x="480960" y="810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Hay dos tipos de Propiedades Físicas Eléctric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5800" y="204768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ucción de Corriente Eléct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52280" y="209988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Corrientes Eléctricas pueden ocurrir en los Materiales por los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Electron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Hueco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Pares de Coop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solamente en los superconductores), e 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720" y="14400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minología para la Conducción Eléct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8840" y="1201680"/>
            <a:ext cx="8034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ovimiento de carg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a distancias macroscópic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un material por la influencia de un campo eléctrico se llama corriente eléctrica o simplemente cor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electrónica o mediante Hue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sóli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lectrones libres, huecos, o ambos se pueden mover a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distancias macroscópic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bido a un campo eléctrico con relativa fac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I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plasm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algunos sólidos y algunos líqui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os transportadores de cargas pueden ser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i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n estos materiales, cationes o aniones se mueven macroscópicamente a través del sustrato transportando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585e0"/>
                </a:solidFill>
                <a:uFillTx/>
                <a:latin typeface="Arial"/>
              </a:rPr>
              <a:t>Corriente por Par de Co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los sólidos están en su estado superconductor, los transportadores de carga son </a:t>
            </a:r>
            <a:r>
              <a:rPr b="1" lang="en-US" sz="2000" spc="-1" strike="noStrike">
                <a:solidFill>
                  <a:srgbClr val="8585e0"/>
                </a:solidFill>
                <a:latin typeface="Arial"/>
              </a:rPr>
              <a:t>electrones pareados (espín hacia arriba + espín hacia abaj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dcterms:modified xsi:type="dcterms:W3CDTF">2014-10-21T22:10:44Z</dcterms:modified>
  <cp:revision>489</cp:revision>
  <dc:subject/>
  <dc:title>Nanofabrication Manufacturing Technology Program</dc:title>
</cp:coreProperties>
</file>